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320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2836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9804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320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2836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8520" y="369360"/>
            <a:ext cx="87472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6320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2836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9804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6320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2836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8520" y="369360"/>
            <a:ext cx="87472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847880" y="6303960"/>
            <a:ext cx="5403960" cy="422280"/>
            <a:chOff x="1847880" y="6303960"/>
            <a:chExt cx="5403960" cy="422280"/>
          </a:xfrm>
        </p:grpSpPr>
        <p:sp>
          <p:nvSpPr>
            <p:cNvPr id="1" name=""/>
            <p:cNvSpPr/>
            <p:nvPr/>
          </p:nvSpPr>
          <p:spPr>
            <a:xfrm>
              <a:off x="1847880" y="6303960"/>
              <a:ext cx="540396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47880" y="6395400"/>
              <a:ext cx="5403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AsynLove: An Asyn-based device support for the Love 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7160" y="6262560"/>
            <a:ext cx="8662680" cy="180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1360" y="603108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390D58AC-2604-4841-970C-ADFD622C5E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2200" y="629316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160" y="920880"/>
            <a:ext cx="8642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67600" y="6282000"/>
            <a:ext cx="11350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305920" y="6297480"/>
            <a:ext cx="593640" cy="351000"/>
            <a:chOff x="8305920" y="6297480"/>
            <a:chExt cx="593640" cy="351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59364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8565480" y="6442920"/>
              <a:ext cx="7596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4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19560" y="589536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13760" y="5977080"/>
            <a:ext cx="549360" cy="55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57440" y="5821200"/>
            <a:ext cx="6200640" cy="180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5000" y="550584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21800" y="6405480"/>
            <a:ext cx="737280" cy="56520"/>
            <a:chOff x="2521800" y="6405480"/>
            <a:chExt cx="737280" cy="56520"/>
          </a:xfrm>
        </p:grpSpPr>
        <p:sp>
          <p:nvSpPr>
            <p:cNvPr id="58" name=""/>
            <p:cNvSpPr/>
            <p:nvPr/>
          </p:nvSpPr>
          <p:spPr>
            <a:xfrm>
              <a:off x="2548080" y="6405480"/>
              <a:ext cx="711000" cy="41400"/>
            </a:xfrm>
            <a:prstGeom prst="roundRect">
              <a:avLst>
                <a:gd name="adj" fmla="val 384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521800" y="6405480"/>
              <a:ext cx="726120" cy="56520"/>
              <a:chOff x="2521800" y="6405480"/>
              <a:chExt cx="726120" cy="56520"/>
            </a:xfrm>
          </p:grpSpPr>
          <p:sp>
            <p:nvSpPr>
              <p:cNvPr id="60" name=""/>
              <p:cNvSpPr/>
              <p:nvPr/>
            </p:nvSpPr>
            <p:spPr>
              <a:xfrm>
                <a:off x="2548080" y="6405480"/>
                <a:ext cx="699840" cy="32040"/>
              </a:xfrm>
              <a:prstGeom prst="roundRect">
                <a:avLst>
                  <a:gd name="adj" fmla="val 45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521800" y="6405480"/>
                <a:ext cx="716760" cy="56520"/>
                <a:chOff x="2521800" y="6405480"/>
                <a:chExt cx="716760" cy="56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548080" y="6405480"/>
                  <a:ext cx="690480" cy="27720"/>
                </a:xfrm>
                <a:prstGeom prst="roundRect">
                  <a:avLst>
                    <a:gd name="adj" fmla="val 5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2521800" y="6405480"/>
                  <a:ext cx="715320" cy="56520"/>
                  <a:chOff x="2521800" y="6405480"/>
                  <a:chExt cx="715320" cy="565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2548080" y="6405480"/>
                    <a:ext cx="684000" cy="20520"/>
                  </a:xfrm>
                  <a:prstGeom prst="roundRect">
                    <a:avLst>
                      <a:gd name="adj" fmla="val 625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21800" y="6405480"/>
                    <a:ext cx="715320" cy="56520"/>
                    <a:chOff x="2521800" y="6405480"/>
                    <a:chExt cx="715320" cy="5652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48080" y="6405480"/>
                      <a:ext cx="677520" cy="16560"/>
                    </a:xfrm>
                    <a:prstGeom prst="roundRect">
                      <a:avLst>
                        <a:gd name="adj" fmla="val 713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2521800" y="6405480"/>
                      <a:ext cx="715320" cy="56520"/>
                      <a:chOff x="2521800" y="6405480"/>
                      <a:chExt cx="715320" cy="56520"/>
                    </a:xfrm>
                  </p:grpSpPr>
                  <p:sp>
                    <p:nvSpPr>
                      <p:cNvPr id="68" name=""/>
                      <p:cNvSpPr/>
                      <p:nvPr/>
                    </p:nvSpPr>
                    <p:spPr>
                      <a:xfrm>
                        <a:off x="2548080" y="6405480"/>
                        <a:ext cx="669600" cy="12960"/>
                      </a:xfrm>
                      <a:prstGeom prst="roundRect">
                        <a:avLst>
                          <a:gd name="adj" fmla="val 833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2521800" y="6405480"/>
                        <a:ext cx="715320" cy="56520"/>
                        <a:chOff x="2521800" y="6405480"/>
                        <a:chExt cx="715320" cy="5652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2548080" y="6405480"/>
                          <a:ext cx="666360" cy="10800"/>
                        </a:xfrm>
                        <a:prstGeom prst="roundRect">
                          <a:avLst>
                            <a:gd name="adj" fmla="val 1000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6000" bIns="-36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2521800" y="6405480"/>
                          <a:ext cx="715320" cy="56520"/>
                          <a:chOff x="2521800" y="6405480"/>
                          <a:chExt cx="715320" cy="5652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2548080" y="6405480"/>
                            <a:ext cx="664560" cy="8640"/>
                          </a:xfrm>
                          <a:prstGeom prst="roundRect">
                            <a:avLst>
                              <a:gd name="adj" fmla="val 1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2521800" y="6405480"/>
                            <a:ext cx="715320" cy="56520"/>
                          </a:xfrm>
                          <a:prstGeom prst="roundRect">
                            <a:avLst>
                              <a:gd name="adj" fmla="val 1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 algn="ctr">
                              <a:lnSpc>
                                <a:spcPct val="50000"/>
                              </a:lnSpc>
                              <a:spcBef>
                                <a:spcPts val="437"/>
                              </a:spcBef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700" spc="-1" strike="noStrike">
                                <a:solidFill>
                                  <a:srgbClr val="1a1818"/>
                                </a:solidFill>
                                <a:latin typeface="Arial"/>
                              </a:rPr>
                              <a:t>Office of Science</a:t>
                            </a:r>
                            <a:endParaRPr b="0" lang="en-US" sz="7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74" name=""/>
          <p:cNvGrpSpPr/>
          <p:nvPr/>
        </p:nvGrpSpPr>
        <p:grpSpPr>
          <a:xfrm>
            <a:off x="2558160" y="6486480"/>
            <a:ext cx="658080" cy="42480"/>
            <a:chOff x="2558160" y="6486480"/>
            <a:chExt cx="658080" cy="42480"/>
          </a:xfrm>
        </p:grpSpPr>
        <p:sp>
          <p:nvSpPr>
            <p:cNvPr id="75" name=""/>
            <p:cNvSpPr/>
            <p:nvPr/>
          </p:nvSpPr>
          <p:spPr>
            <a:xfrm>
              <a:off x="2589120" y="6486480"/>
              <a:ext cx="627120" cy="17640"/>
            </a:xfrm>
            <a:prstGeom prst="roundRect">
              <a:avLst>
                <a:gd name="adj" fmla="val 8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558160" y="6486480"/>
              <a:ext cx="646920" cy="42480"/>
              <a:chOff x="2558160" y="6486480"/>
              <a:chExt cx="646920" cy="42480"/>
            </a:xfrm>
          </p:grpSpPr>
          <p:sp>
            <p:nvSpPr>
              <p:cNvPr id="77" name=""/>
              <p:cNvSpPr/>
              <p:nvPr/>
            </p:nvSpPr>
            <p:spPr>
              <a:xfrm>
                <a:off x="2589120" y="6486480"/>
                <a:ext cx="615960" cy="10080"/>
              </a:xfrm>
              <a:prstGeom prst="roundRect">
                <a:avLst>
                  <a:gd name="adj" fmla="val 12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558160" y="6486480"/>
                <a:ext cx="641880" cy="42480"/>
                <a:chOff x="2558160" y="6486480"/>
                <a:chExt cx="641880" cy="42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589120" y="6486480"/>
                  <a:ext cx="608040" cy="5040"/>
                </a:xfrm>
                <a:prstGeom prst="roundRect">
                  <a:avLst>
                    <a:gd name="adj" fmla="val 25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2558160" y="6486480"/>
                  <a:ext cx="641880" cy="42480"/>
                  <a:chOff x="2558160" y="6486480"/>
                  <a:chExt cx="641880" cy="424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2589120" y="6486480"/>
                    <a:ext cx="600120" cy="180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2558160" y="6486480"/>
                    <a:ext cx="641880" cy="42480"/>
                    <a:chOff x="2558160" y="6486480"/>
                    <a:chExt cx="641880" cy="42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589120" y="6486480"/>
                      <a:ext cx="593640" cy="720"/>
                    </a:xfrm>
                    <a:prstGeom prst="roundRect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2558160" y="6486480"/>
                      <a:ext cx="641880" cy="42480"/>
                      <a:chOff x="2558160" y="6486480"/>
                      <a:chExt cx="641880" cy="4248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2589120" y="6486480"/>
                        <a:ext cx="587160" cy="36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440" bIns="-46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" name=""/>
                      <p:cNvGrpSpPr/>
                      <p:nvPr/>
                    </p:nvGrpSpPr>
                    <p:grpSpPr>
                      <a:xfrm>
                        <a:off x="2558160" y="6486480"/>
                        <a:ext cx="641880" cy="42480"/>
                        <a:chOff x="2558160" y="6486480"/>
                        <a:chExt cx="641880" cy="42480"/>
                      </a:xfrm>
                    </p:grpSpPr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>
                          <a:off x="2589120" y="6486480"/>
                          <a:ext cx="582480" cy="360"/>
                        </a:xfrm>
                        <a:prstGeom prst="roundRect">
                          <a:avLst>
                            <a:gd name="adj" fmla="val 5000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6440" bIns="-46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8" name=""/>
                        <p:cNvGrpSpPr/>
                        <p:nvPr/>
                      </p:nvGrpSpPr>
                      <p:grpSpPr>
                        <a:xfrm>
                          <a:off x="2558160" y="6486480"/>
                          <a:ext cx="641880" cy="42480"/>
                          <a:chOff x="2558160" y="6486480"/>
                          <a:chExt cx="641880" cy="42480"/>
                        </a:xfrm>
                      </p:grpSpPr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>
                            <a:off x="2589120" y="6486480"/>
                            <a:ext cx="581040" cy="360"/>
                          </a:xfrm>
                          <a:prstGeom prst="roundRect">
                            <a:avLst>
                              <a:gd name="adj" fmla="val 5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0" name=""/>
                          <p:cNvSpPr/>
                          <p:nvPr/>
                        </p:nvSpPr>
                        <p:spPr>
                          <a:xfrm>
                            <a:off x="2558160" y="6486480"/>
                            <a:ext cx="641880" cy="42480"/>
                          </a:xfrm>
                          <a:prstGeom prst="roundRect">
                            <a:avLst>
                              <a:gd name="adj" fmla="val 5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 algn="ctr">
                              <a:lnSpc>
                                <a:spcPct val="50000"/>
                              </a:lnSpc>
                              <a:spcBef>
                                <a:spcPts val="249"/>
                              </a:spcBef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400" spc="-1" strike="noStrike">
                                <a:solidFill>
                                  <a:srgbClr val="1a1818"/>
                                </a:solidFill>
                                <a:latin typeface="Arial"/>
                              </a:rPr>
                              <a:t>U.S. Department of Energy</a:t>
                            </a:r>
                            <a:endParaRPr b="0" lang="en-US" sz="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91" name=""/>
          <p:cNvGrpSpPr/>
          <p:nvPr/>
        </p:nvGrpSpPr>
        <p:grpSpPr>
          <a:xfrm>
            <a:off x="2558880" y="5979960"/>
            <a:ext cx="684360" cy="360360"/>
            <a:chOff x="2558880" y="5979960"/>
            <a:chExt cx="684360" cy="36036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8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863080" y="6132960"/>
              <a:ext cx="8208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57360" y="2044800"/>
            <a:ext cx="6437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7947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7000" y="1515960"/>
            <a:ext cx="6451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CDA Cross Traini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457360" y="3200400"/>
            <a:ext cx="6461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ve Controller Suppor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43320" y="4095720"/>
            <a:ext cx="64609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id K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ril 4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ad AI record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85920" y="1163520"/>
            <a:ext cx="997920" cy="5069160"/>
            <a:chOff x="385920" y="1163520"/>
            <a:chExt cx="997920" cy="5069160"/>
          </a:xfrm>
        </p:grpSpPr>
        <p:sp>
          <p:nvSpPr>
            <p:cNvPr id="314" name=""/>
            <p:cNvSpPr/>
            <p:nvPr/>
          </p:nvSpPr>
          <p:spPr>
            <a:xfrm>
              <a:off x="385920" y="1163520"/>
              <a:ext cx="99792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48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768320" y="1163520"/>
            <a:ext cx="998280" cy="5069160"/>
            <a:chOff x="1768320" y="1163520"/>
            <a:chExt cx="998280" cy="5069160"/>
          </a:xfrm>
        </p:grpSpPr>
        <p:sp>
          <p:nvSpPr>
            <p:cNvPr id="317" name=""/>
            <p:cNvSpPr/>
            <p:nvPr/>
          </p:nvSpPr>
          <p:spPr>
            <a:xfrm>
              <a:off x="17683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672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611520" y="1163520"/>
            <a:ext cx="998280" cy="5069160"/>
            <a:chOff x="3611520" y="1163520"/>
            <a:chExt cx="998280" cy="5069160"/>
          </a:xfrm>
        </p:grpSpPr>
        <p:sp>
          <p:nvSpPr>
            <p:cNvPr id="320" name=""/>
            <p:cNvSpPr/>
            <p:nvPr/>
          </p:nvSpPr>
          <p:spPr>
            <a:xfrm>
              <a:off x="36115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04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917960" y="1163520"/>
            <a:ext cx="1152360" cy="5069160"/>
            <a:chOff x="4917960" y="1163520"/>
            <a:chExt cx="1152360" cy="5069160"/>
          </a:xfrm>
        </p:grpSpPr>
        <p:sp>
          <p:nvSpPr>
            <p:cNvPr id="323" name=""/>
            <p:cNvSpPr/>
            <p:nvPr/>
          </p:nvSpPr>
          <p:spPr>
            <a:xfrm>
              <a:off x="4917960" y="1163520"/>
              <a:ext cx="11523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erpose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396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85960" y="1695600"/>
            <a:ext cx="1380960" cy="276480"/>
            <a:chOff x="885960" y="1695600"/>
            <a:chExt cx="1380960" cy="276480"/>
          </a:xfrm>
        </p:grpSpPr>
        <p:sp>
          <p:nvSpPr>
            <p:cNvPr id="326" name=""/>
            <p:cNvSpPr/>
            <p:nvPr/>
          </p:nvSpPr>
          <p:spPr>
            <a:xfrm>
              <a:off x="885960" y="1963800"/>
              <a:ext cx="13809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23840" y="1695600"/>
              <a:ext cx="11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_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268360" y="1847880"/>
            <a:ext cx="1842840" cy="276480"/>
            <a:chOff x="2268360" y="1847880"/>
            <a:chExt cx="1842840" cy="276480"/>
          </a:xfrm>
        </p:grpSpPr>
        <p:sp>
          <p:nvSpPr>
            <p:cNvPr id="329" name=""/>
            <p:cNvSpPr/>
            <p:nvPr/>
          </p:nvSpPr>
          <p:spPr>
            <a:xfrm>
              <a:off x="2268360" y="211608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52320" y="184788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ueueReques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266920" y="2232000"/>
            <a:ext cx="1844640" cy="276480"/>
            <a:chOff x="2266920" y="2232000"/>
            <a:chExt cx="1844640" cy="276480"/>
          </a:xfrm>
        </p:grpSpPr>
        <p:sp>
          <p:nvSpPr>
            <p:cNvPr id="332" name=""/>
            <p:cNvSpPr/>
            <p:nvPr/>
          </p:nvSpPr>
          <p:spPr>
            <a:xfrm>
              <a:off x="2266920" y="2500200"/>
              <a:ext cx="18446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0880" y="2232000"/>
              <a:ext cx="159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allback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66920" y="2622600"/>
            <a:ext cx="1344600" cy="460440"/>
            <a:chOff x="2266920" y="2622600"/>
            <a:chExt cx="1344600" cy="460440"/>
          </a:xfrm>
        </p:grpSpPr>
        <p:grpSp>
          <p:nvGrpSpPr>
            <p:cNvPr id="335" name=""/>
            <p:cNvGrpSpPr/>
            <p:nvPr/>
          </p:nvGrpSpPr>
          <p:grpSpPr>
            <a:xfrm>
              <a:off x="2266920" y="2891160"/>
              <a:ext cx="461880" cy="191880"/>
              <a:chOff x="2266920" y="2891160"/>
              <a:chExt cx="461880" cy="191880"/>
            </a:xfrm>
          </p:grpSpPr>
          <p:sp>
            <p:nvSpPr>
              <p:cNvPr id="336" name=""/>
              <p:cNvSpPr/>
              <p:nvPr/>
            </p:nvSpPr>
            <p:spPr>
              <a:xfrm>
                <a:off x="2266920" y="289116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66920" y="308304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28800" y="2891160"/>
                <a:ext cx="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306520" y="262260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e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254320" y="3198960"/>
            <a:ext cx="1933560" cy="1650960"/>
            <a:chOff x="2254320" y="3198960"/>
            <a:chExt cx="1933560" cy="1650960"/>
          </a:xfrm>
        </p:grpSpPr>
        <p:sp>
          <p:nvSpPr>
            <p:cNvPr id="341" name=""/>
            <p:cNvSpPr/>
            <p:nvPr/>
          </p:nvSpPr>
          <p:spPr>
            <a:xfrm>
              <a:off x="2306520" y="3198960"/>
              <a:ext cx="188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ecuteComman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254320" y="3467160"/>
              <a:ext cx="666720" cy="1382760"/>
              <a:chOff x="2254320" y="3467160"/>
              <a:chExt cx="666720" cy="1382760"/>
            </a:xfrm>
          </p:grpSpPr>
          <p:sp>
            <p:nvSpPr>
              <p:cNvPr id="343" name=""/>
              <p:cNvSpPr/>
              <p:nvPr/>
            </p:nvSpPr>
            <p:spPr>
              <a:xfrm>
                <a:off x="2254320" y="3467160"/>
                <a:ext cx="6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54320" y="4849920"/>
                <a:ext cx="6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21040" y="346716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2922480" y="3308400"/>
            <a:ext cx="2571480" cy="276480"/>
            <a:chOff x="2922480" y="3308400"/>
            <a:chExt cx="2571480" cy="276480"/>
          </a:xfrm>
        </p:grpSpPr>
        <p:sp>
          <p:nvSpPr>
            <p:cNvPr id="347" name=""/>
            <p:cNvSpPr/>
            <p:nvPr/>
          </p:nvSpPr>
          <p:spPr>
            <a:xfrm>
              <a:off x="2922480" y="3576600"/>
              <a:ext cx="25714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79160" y="3308400"/>
              <a:ext cx="221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i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884160" y="4927680"/>
            <a:ext cx="1382760" cy="276480"/>
            <a:chOff x="884160" y="4927680"/>
            <a:chExt cx="1382760" cy="276480"/>
          </a:xfrm>
        </p:grpSpPr>
        <p:sp>
          <p:nvSpPr>
            <p:cNvPr id="350" name=""/>
            <p:cNvSpPr/>
            <p:nvPr/>
          </p:nvSpPr>
          <p:spPr>
            <a:xfrm>
              <a:off x="884160" y="5195880"/>
              <a:ext cx="13827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22040" y="4927680"/>
              <a:ext cx="119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377040" y="1163520"/>
            <a:ext cx="998280" cy="5069160"/>
            <a:chOff x="6377040" y="1163520"/>
            <a:chExt cx="998280" cy="5069160"/>
          </a:xfrm>
        </p:grpSpPr>
        <p:sp>
          <p:nvSpPr>
            <p:cNvPr id="353" name=""/>
            <p:cNvSpPr/>
            <p:nvPr/>
          </p:nvSpPr>
          <p:spPr>
            <a:xfrm>
              <a:off x="637704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760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494320" y="3692520"/>
            <a:ext cx="1382400" cy="276480"/>
            <a:chOff x="5494320" y="3692520"/>
            <a:chExt cx="1382400" cy="276480"/>
          </a:xfrm>
        </p:grpSpPr>
        <p:sp>
          <p:nvSpPr>
            <p:cNvPr id="356" name=""/>
            <p:cNvSpPr/>
            <p:nvPr/>
          </p:nvSpPr>
          <p:spPr>
            <a:xfrm>
              <a:off x="5494320" y="3960720"/>
              <a:ext cx="1382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32200" y="369252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ite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922480" y="4076640"/>
            <a:ext cx="2571480" cy="276480"/>
            <a:chOff x="2922480" y="4076640"/>
            <a:chExt cx="2571480" cy="276480"/>
          </a:xfrm>
        </p:grpSpPr>
        <p:sp>
          <p:nvSpPr>
            <p:cNvPr id="359" name=""/>
            <p:cNvSpPr/>
            <p:nvPr/>
          </p:nvSpPr>
          <p:spPr>
            <a:xfrm>
              <a:off x="2922480" y="4344840"/>
              <a:ext cx="25714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79160" y="4076640"/>
              <a:ext cx="221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494320" y="4460760"/>
            <a:ext cx="1382400" cy="276480"/>
            <a:chOff x="5494320" y="4460760"/>
            <a:chExt cx="1382400" cy="276480"/>
          </a:xfrm>
        </p:grpSpPr>
        <p:sp>
          <p:nvSpPr>
            <p:cNvPr id="362" name=""/>
            <p:cNvSpPr/>
            <p:nvPr/>
          </p:nvSpPr>
          <p:spPr>
            <a:xfrm>
              <a:off x="5494320" y="4728960"/>
              <a:ext cx="1382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32200" y="446076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ad respon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885960" y="5305320"/>
            <a:ext cx="1380960" cy="276480"/>
            <a:chOff x="885960" y="5305320"/>
            <a:chExt cx="1380960" cy="276480"/>
          </a:xfrm>
        </p:grpSpPr>
        <p:sp>
          <p:nvSpPr>
            <p:cNvPr id="365" name=""/>
            <p:cNvSpPr/>
            <p:nvPr/>
          </p:nvSpPr>
          <p:spPr>
            <a:xfrm>
              <a:off x="885960" y="5573520"/>
              <a:ext cx="13809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3840" y="5305320"/>
              <a:ext cx="11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_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266920" y="5465880"/>
            <a:ext cx="1344600" cy="459720"/>
            <a:chOff x="2266920" y="5465880"/>
            <a:chExt cx="1344600" cy="459720"/>
          </a:xfrm>
        </p:grpSpPr>
        <p:grpSp>
          <p:nvGrpSpPr>
            <p:cNvPr id="368" name=""/>
            <p:cNvGrpSpPr/>
            <p:nvPr/>
          </p:nvGrpSpPr>
          <p:grpSpPr>
            <a:xfrm>
              <a:off x="2266920" y="5734080"/>
              <a:ext cx="461880" cy="191520"/>
              <a:chOff x="2266920" y="5734080"/>
              <a:chExt cx="461880" cy="191520"/>
            </a:xfrm>
          </p:grpSpPr>
          <p:sp>
            <p:nvSpPr>
              <p:cNvPr id="369" name=""/>
              <p:cNvSpPr/>
              <p:nvPr/>
            </p:nvSpPr>
            <p:spPr>
              <a:xfrm>
                <a:off x="2266920" y="5734080"/>
                <a:ext cx="461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6920" y="5925600"/>
                <a:ext cx="461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28800" y="5734080"/>
                <a:ext cx="0" cy="19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06520" y="546588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oCompletion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oveApp standalone 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applica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ith the release (R3-0-0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vxWorks and Linux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base with PVs for each comman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oveApp Initialization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3680" y="1163520"/>
            <a:ext cx="844560" cy="5069160"/>
            <a:chOff x="463680" y="1163520"/>
            <a:chExt cx="844560" cy="5069160"/>
          </a:xfrm>
        </p:grpSpPr>
        <p:sp>
          <p:nvSpPr>
            <p:cNvPr id="377" name=""/>
            <p:cNvSpPr/>
            <p:nvPr/>
          </p:nvSpPr>
          <p:spPr>
            <a:xfrm>
              <a:off x="46368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rt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md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8596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4640" y="1163520"/>
            <a:ext cx="844560" cy="5069160"/>
            <a:chOff x="1844640" y="1163520"/>
            <a:chExt cx="844560" cy="5069160"/>
          </a:xfrm>
        </p:grpSpPr>
        <p:sp>
          <p:nvSpPr>
            <p:cNvPr id="380" name=""/>
            <p:cNvSpPr/>
            <p:nvPr/>
          </p:nvSpPr>
          <p:spPr>
            <a:xfrm>
              <a:off x="184464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ctal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P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669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27400" y="1163520"/>
            <a:ext cx="844560" cy="5069160"/>
            <a:chOff x="3227400" y="1163520"/>
            <a:chExt cx="844560" cy="5069160"/>
          </a:xfrm>
        </p:grpSpPr>
        <p:sp>
          <p:nvSpPr>
            <p:cNvPr id="383" name=""/>
            <p:cNvSpPr/>
            <p:nvPr/>
          </p:nvSpPr>
          <p:spPr>
            <a:xfrm>
              <a:off x="322740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rt 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496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72040" y="1163520"/>
            <a:ext cx="844560" cy="5069160"/>
            <a:chOff x="5072040" y="1163520"/>
            <a:chExt cx="844560" cy="5069160"/>
          </a:xfrm>
        </p:grpSpPr>
        <p:sp>
          <p:nvSpPr>
            <p:cNvPr id="386" name=""/>
            <p:cNvSpPr/>
            <p:nvPr/>
          </p:nvSpPr>
          <p:spPr>
            <a:xfrm>
              <a:off x="507204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er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943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54800" y="1163520"/>
            <a:ext cx="844560" cy="5069160"/>
            <a:chOff x="6454800" y="1163520"/>
            <a:chExt cx="844560" cy="5069160"/>
          </a:xfrm>
        </p:grpSpPr>
        <p:sp>
          <p:nvSpPr>
            <p:cNvPr id="389" name=""/>
            <p:cNvSpPr/>
            <p:nvPr/>
          </p:nvSpPr>
          <p:spPr>
            <a:xfrm>
              <a:off x="645480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770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721640" y="1163520"/>
            <a:ext cx="998280" cy="5069160"/>
            <a:chOff x="7721640" y="1163520"/>
            <a:chExt cx="998280" cy="5069160"/>
          </a:xfrm>
        </p:grpSpPr>
        <p:sp>
          <p:nvSpPr>
            <p:cNvPr id="392" name=""/>
            <p:cNvSpPr/>
            <p:nvPr/>
          </p:nvSpPr>
          <p:spPr>
            <a:xfrm>
              <a:off x="772164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206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85960" y="1547640"/>
            <a:ext cx="1404720" cy="276480"/>
            <a:chOff x="885960" y="1547640"/>
            <a:chExt cx="1404720" cy="276480"/>
          </a:xfrm>
        </p:grpSpPr>
        <p:sp>
          <p:nvSpPr>
            <p:cNvPr id="395" name=""/>
            <p:cNvSpPr/>
            <p:nvPr/>
          </p:nvSpPr>
          <p:spPr>
            <a:xfrm>
              <a:off x="885960" y="181584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23840" y="154764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P 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85960" y="2814480"/>
            <a:ext cx="2763360" cy="276480"/>
            <a:chOff x="885960" y="2814480"/>
            <a:chExt cx="2763360" cy="276480"/>
          </a:xfrm>
        </p:grpSpPr>
        <p:sp>
          <p:nvSpPr>
            <p:cNvPr id="398" name=""/>
            <p:cNvSpPr/>
            <p:nvPr/>
          </p:nvSpPr>
          <p:spPr>
            <a:xfrm>
              <a:off x="885960" y="3082680"/>
              <a:ext cx="2763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7760" y="2814480"/>
              <a:ext cx="23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Serial 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85960" y="4197240"/>
            <a:ext cx="5991120" cy="276480"/>
            <a:chOff x="885960" y="4197240"/>
            <a:chExt cx="5991120" cy="276480"/>
          </a:xfrm>
        </p:grpSpPr>
        <p:sp>
          <p:nvSpPr>
            <p:cNvPr id="401" name=""/>
            <p:cNvSpPr/>
            <p:nvPr/>
          </p:nvSpPr>
          <p:spPr>
            <a:xfrm>
              <a:off x="885960" y="446544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60400" y="419724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ad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877080" y="5848200"/>
            <a:ext cx="1343160" cy="276480"/>
            <a:chOff x="6877080" y="5848200"/>
            <a:chExt cx="1343160" cy="276480"/>
          </a:xfrm>
        </p:grpSpPr>
        <p:sp>
          <p:nvSpPr>
            <p:cNvPr id="404" name=""/>
            <p:cNvSpPr/>
            <p:nvPr/>
          </p:nvSpPr>
          <p:spPr>
            <a:xfrm>
              <a:off x="6877080" y="6116400"/>
              <a:ext cx="13431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09200" y="584820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record 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85960" y="3697200"/>
            <a:ext cx="4607280" cy="276480"/>
            <a:chOff x="885960" y="3697200"/>
            <a:chExt cx="4607280" cy="276480"/>
          </a:xfrm>
        </p:grpSpPr>
        <p:sp>
          <p:nvSpPr>
            <p:cNvPr id="407" name=""/>
            <p:cNvSpPr/>
            <p:nvPr/>
          </p:nvSpPr>
          <p:spPr>
            <a:xfrm>
              <a:off x="885960" y="3965400"/>
              <a:ext cx="460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9200" y="3697200"/>
              <a:ext cx="39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nterpose Love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85960" y="4581360"/>
            <a:ext cx="5991120" cy="276480"/>
            <a:chOff x="885960" y="4581360"/>
            <a:chExt cx="5991120" cy="276480"/>
          </a:xfrm>
        </p:grpSpPr>
        <p:sp>
          <p:nvSpPr>
            <p:cNvPr id="410" name=""/>
            <p:cNvSpPr/>
            <p:nvPr/>
          </p:nvSpPr>
          <p:spPr>
            <a:xfrm>
              <a:off x="885960" y="4849560"/>
              <a:ext cx="599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60400" y="458136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gister record,device,dr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85960" y="4965840"/>
            <a:ext cx="5991120" cy="276480"/>
            <a:chOff x="885960" y="4965840"/>
            <a:chExt cx="5991120" cy="276480"/>
          </a:xfrm>
        </p:grpSpPr>
        <p:sp>
          <p:nvSpPr>
            <p:cNvPr id="413" name=""/>
            <p:cNvSpPr/>
            <p:nvPr/>
          </p:nvSpPr>
          <p:spPr>
            <a:xfrm>
              <a:off x="885960" y="523404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60400" y="496584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ad database rec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885960" y="5464080"/>
            <a:ext cx="5991120" cy="276480"/>
            <a:chOff x="885960" y="5464080"/>
            <a:chExt cx="5991120" cy="276480"/>
          </a:xfrm>
        </p:grpSpPr>
        <p:sp>
          <p:nvSpPr>
            <p:cNvPr id="416" name=""/>
            <p:cNvSpPr/>
            <p:nvPr/>
          </p:nvSpPr>
          <p:spPr>
            <a:xfrm>
              <a:off x="885960" y="572616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60400" y="546408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85960" y="3198960"/>
            <a:ext cx="2763360" cy="276480"/>
            <a:chOff x="885960" y="3198960"/>
            <a:chExt cx="2763360" cy="276480"/>
          </a:xfrm>
        </p:grpSpPr>
        <p:sp>
          <p:nvSpPr>
            <p:cNvPr id="419" name=""/>
            <p:cNvSpPr/>
            <p:nvPr/>
          </p:nvSpPr>
          <p:spPr>
            <a:xfrm>
              <a:off x="885960" y="3466800"/>
              <a:ext cx="276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57760" y="3198960"/>
              <a:ext cx="23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fig Serial 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85960" y="2309760"/>
            <a:ext cx="1404720" cy="276480"/>
            <a:chOff x="885960" y="2309760"/>
            <a:chExt cx="1404720" cy="276480"/>
          </a:xfrm>
        </p:grpSpPr>
        <p:sp>
          <p:nvSpPr>
            <p:cNvPr id="422" name=""/>
            <p:cNvSpPr/>
            <p:nvPr/>
          </p:nvSpPr>
          <p:spPr>
            <a:xfrm>
              <a:off x="885960" y="257796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23840" y="230976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reate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85960" y="1925640"/>
            <a:ext cx="1404720" cy="276480"/>
            <a:chOff x="885960" y="1925640"/>
            <a:chExt cx="1404720" cy="276480"/>
          </a:xfrm>
        </p:grpSpPr>
        <p:sp>
          <p:nvSpPr>
            <p:cNvPr id="425" name=""/>
            <p:cNvSpPr/>
            <p:nvPr/>
          </p:nvSpPr>
          <p:spPr>
            <a:xfrm>
              <a:off x="885960" y="219384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23840" y="192564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P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porting (dbior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614600" y="1163520"/>
            <a:ext cx="5895720" cy="453384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2075040" y="1201680"/>
            <a:ext cx="4570200" cy="1575000"/>
            <a:chOff x="2075040" y="1201680"/>
            <a:chExt cx="4570200" cy="1575000"/>
          </a:xfrm>
        </p:grpSpPr>
        <p:sp>
          <p:nvSpPr>
            <p:cNvPr id="430" name=""/>
            <p:cNvSpPr/>
            <p:nvPr/>
          </p:nvSpPr>
          <p:spPr>
            <a:xfrm>
              <a:off x="2075040" y="2046240"/>
              <a:ext cx="457020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57480" y="1201680"/>
              <a:ext cx="76860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768320" y="1932120"/>
            <a:ext cx="768600" cy="3340080"/>
            <a:chOff x="1768320" y="1932120"/>
            <a:chExt cx="768600" cy="3340080"/>
          </a:xfrm>
        </p:grpSpPr>
        <p:sp>
          <p:nvSpPr>
            <p:cNvPr id="433" name=""/>
            <p:cNvSpPr/>
            <p:nvPr/>
          </p:nvSpPr>
          <p:spPr>
            <a:xfrm>
              <a:off x="2075040" y="2776680"/>
              <a:ext cx="1918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6832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998720" y="1932120"/>
            <a:ext cx="730080" cy="3340080"/>
            <a:chOff x="1998720" y="1932120"/>
            <a:chExt cx="730080" cy="3340080"/>
          </a:xfrm>
        </p:grpSpPr>
        <p:sp>
          <p:nvSpPr>
            <p:cNvPr id="436" name=""/>
            <p:cNvSpPr/>
            <p:nvPr/>
          </p:nvSpPr>
          <p:spPr>
            <a:xfrm>
              <a:off x="2253600" y="2776680"/>
              <a:ext cx="2926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98720" y="1932120"/>
              <a:ext cx="73008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344680" y="1930320"/>
            <a:ext cx="728640" cy="3341880"/>
            <a:chOff x="2344680" y="1930320"/>
            <a:chExt cx="728640" cy="3341880"/>
          </a:xfrm>
        </p:grpSpPr>
        <p:sp>
          <p:nvSpPr>
            <p:cNvPr id="439" name=""/>
            <p:cNvSpPr/>
            <p:nvPr/>
          </p:nvSpPr>
          <p:spPr>
            <a:xfrm>
              <a:off x="2563200" y="2776680"/>
              <a:ext cx="25416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44680" y="1930320"/>
              <a:ext cx="72864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1932120"/>
            <a:ext cx="768240" cy="3340080"/>
            <a:chOff x="2843280" y="1932120"/>
            <a:chExt cx="768240" cy="3340080"/>
          </a:xfrm>
        </p:grpSpPr>
        <p:sp>
          <p:nvSpPr>
            <p:cNvPr id="442" name=""/>
            <p:cNvSpPr/>
            <p:nvPr/>
          </p:nvSpPr>
          <p:spPr>
            <a:xfrm>
              <a:off x="2843280" y="2776680"/>
              <a:ext cx="76824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4328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381480" y="1930320"/>
            <a:ext cx="768240" cy="3341880"/>
            <a:chOff x="3381480" y="1930320"/>
            <a:chExt cx="768240" cy="3341880"/>
          </a:xfrm>
        </p:grpSpPr>
        <p:sp>
          <p:nvSpPr>
            <p:cNvPr id="445" name=""/>
            <p:cNvSpPr/>
            <p:nvPr/>
          </p:nvSpPr>
          <p:spPr>
            <a:xfrm>
              <a:off x="3611520" y="2776680"/>
              <a:ext cx="30816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81480" y="1930320"/>
              <a:ext cx="76824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56120" y="1932120"/>
            <a:ext cx="1689120" cy="3340080"/>
            <a:chOff x="4956120" y="1932120"/>
            <a:chExt cx="1689120" cy="3340080"/>
          </a:xfrm>
        </p:grpSpPr>
        <p:sp>
          <p:nvSpPr>
            <p:cNvPr id="448" name=""/>
            <p:cNvSpPr/>
            <p:nvPr/>
          </p:nvSpPr>
          <p:spPr>
            <a:xfrm>
              <a:off x="4956120" y="2776680"/>
              <a:ext cx="1689120" cy="2495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4024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611520" y="1932120"/>
            <a:ext cx="768240" cy="3340080"/>
            <a:chOff x="3611520" y="1932120"/>
            <a:chExt cx="768240" cy="3340080"/>
          </a:xfrm>
        </p:grpSpPr>
        <p:sp>
          <p:nvSpPr>
            <p:cNvPr id="451" name=""/>
            <p:cNvSpPr/>
            <p:nvPr/>
          </p:nvSpPr>
          <p:spPr>
            <a:xfrm>
              <a:off x="3919680" y="2776680"/>
              <a:ext cx="1918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1152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071960" y="1932120"/>
            <a:ext cx="768240" cy="3340080"/>
            <a:chOff x="4071960" y="1932120"/>
            <a:chExt cx="768240" cy="3340080"/>
          </a:xfrm>
        </p:grpSpPr>
        <p:sp>
          <p:nvSpPr>
            <p:cNvPr id="454" name=""/>
            <p:cNvSpPr/>
            <p:nvPr/>
          </p:nvSpPr>
          <p:spPr>
            <a:xfrm>
              <a:off x="4264200" y="2776680"/>
              <a:ext cx="38412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7196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417920" y="1932120"/>
            <a:ext cx="768600" cy="3340080"/>
            <a:chOff x="4417920" y="1932120"/>
            <a:chExt cx="768600" cy="3340080"/>
          </a:xfrm>
        </p:grpSpPr>
        <p:sp>
          <p:nvSpPr>
            <p:cNvPr id="457" name=""/>
            <p:cNvSpPr/>
            <p:nvPr/>
          </p:nvSpPr>
          <p:spPr>
            <a:xfrm>
              <a:off x="4687920" y="2776680"/>
              <a:ext cx="26820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792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rt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803760" y="1930320"/>
            <a:ext cx="730080" cy="3341880"/>
            <a:chOff x="3803760" y="1930320"/>
            <a:chExt cx="730080" cy="3341880"/>
          </a:xfrm>
        </p:grpSpPr>
        <p:sp>
          <p:nvSpPr>
            <p:cNvPr id="460" name=""/>
            <p:cNvSpPr/>
            <p:nvPr/>
          </p:nvSpPr>
          <p:spPr>
            <a:xfrm>
              <a:off x="4096080" y="2776680"/>
              <a:ext cx="18252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3760" y="1930320"/>
              <a:ext cx="73008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2959200" y="2468520"/>
            <a:ext cx="5030640" cy="3352680"/>
            <a:chOff x="2959200" y="2468520"/>
            <a:chExt cx="5030640" cy="3352680"/>
          </a:xfrm>
        </p:grpSpPr>
        <p:pic>
          <p:nvPicPr>
            <p:cNvPr id="463" name="" descr=""/>
            <p:cNvPicPr/>
            <p:nvPr/>
          </p:nvPicPr>
          <p:blipFill>
            <a:blip r:embed="rId1"/>
            <a:stretch/>
          </p:blipFill>
          <p:spPr>
            <a:xfrm>
              <a:off x="5923080" y="2468520"/>
              <a:ext cx="20667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 flipV="1">
              <a:off x="2959200" y="2468520"/>
              <a:ext cx="2995560" cy="261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9200" y="5079960"/>
              <a:ext cx="2995560" cy="730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92360" y="1085760"/>
            <a:ext cx="3833640" cy="3341880"/>
            <a:chOff x="1692360" y="1085760"/>
            <a:chExt cx="3833640" cy="3341880"/>
          </a:xfrm>
        </p:grpSpPr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3649680" y="1085760"/>
              <a:ext cx="18763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 flipV="1">
              <a:off x="1692360" y="1123560"/>
              <a:ext cx="1957320" cy="330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692360" y="2698920"/>
              <a:ext cx="1957320" cy="1728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DM scree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30120" y="4410000"/>
            <a:ext cx="2629080" cy="14004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00040" y="4389480"/>
            <a:ext cx="73044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3720" y="4849920"/>
            <a:ext cx="73044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4849920"/>
            <a:ext cx="119196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70680" y="2430360"/>
            <a:ext cx="84600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3760" y="1047600"/>
            <a:ext cx="92232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33760" y="1393920"/>
            <a:ext cx="119232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37480" y="4579920"/>
            <a:ext cx="119196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1880" y="4849920"/>
            <a:ext cx="30816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73360" y="1201680"/>
            <a:ext cx="73044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48320" y="1469880"/>
            <a:ext cx="73008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37480" y="4235400"/>
            <a:ext cx="119196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33760" y="1816200"/>
            <a:ext cx="1192320" cy="960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56080" y="1816200"/>
            <a:ext cx="1192320" cy="960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7400" y="5310360"/>
            <a:ext cx="119196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37400" y="4964040"/>
            <a:ext cx="1191960" cy="3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35680" y="3851280"/>
            <a:ext cx="1192320" cy="30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99320" y="3159000"/>
            <a:ext cx="1192320" cy="84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directori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quires Asyn 4-2 and Ipac 2-8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ument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troller and converter Information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lease notes, known issues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ring diagram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base, record instance fi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cBoot for Linux and vxWorks (startup script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M displa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ins the 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AsynLove.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poseLovelink.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Love.c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veServer.c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98400" y="1417320"/>
            <a:ext cx="81914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 issu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ot easily debug an individual control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ght coupling between device support and model type (i.e. INP/OU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ce support controls the command / response process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a multidevice dri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 different approach to reduce coupl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 – Multidevice port driv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multidevice port dri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s the existing interposeLovelink lay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d on top of drvAsynSerialPor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multiple connections to an Asyn por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connections to individual controlle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individual controller communica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 – Multidevice port driv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85960" y="4503600"/>
            <a:ext cx="6451560" cy="165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vAsynSerial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961920" y="4811760"/>
            <a:ext cx="6297840" cy="1305000"/>
            <a:chOff x="961920" y="4811760"/>
            <a:chExt cx="6297840" cy="1305000"/>
          </a:xfrm>
        </p:grpSpPr>
        <p:sp>
          <p:nvSpPr>
            <p:cNvPr id="498" name=""/>
            <p:cNvSpPr/>
            <p:nvPr/>
          </p:nvSpPr>
          <p:spPr>
            <a:xfrm>
              <a:off x="2076480" y="4811760"/>
              <a:ext cx="10364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Comm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19640" y="5732640"/>
              <a:ext cx="38401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61920" y="4811760"/>
              <a:ext cx="103680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419640" y="4811760"/>
            <a:ext cx="384012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pose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5272200"/>
            <a:ext cx="384012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ctet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491240" y="4851360"/>
            <a:ext cx="1152720" cy="1227240"/>
            <a:chOff x="7491240" y="4851360"/>
            <a:chExt cx="1152720" cy="1227240"/>
          </a:xfrm>
        </p:grpSpPr>
        <p:sp>
          <p:nvSpPr>
            <p:cNvPr id="504" name=""/>
            <p:cNvSpPr/>
            <p:nvPr/>
          </p:nvSpPr>
          <p:spPr>
            <a:xfrm>
              <a:off x="7491240" y="4851360"/>
              <a:ext cx="152640" cy="122724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27240"/>
                <a:gd name="textAreaBottom" fmla="*/ 1195560 h 122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99400" y="530820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S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343320" y="3121200"/>
            <a:ext cx="3994200" cy="1228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v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33840" y="3889440"/>
            <a:ext cx="272592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c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33840" y="3429000"/>
            <a:ext cx="272592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ctet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489800" y="3429000"/>
            <a:ext cx="1152720" cy="804960"/>
            <a:chOff x="7489800" y="3429000"/>
            <a:chExt cx="1152720" cy="804960"/>
          </a:xfrm>
        </p:grpSpPr>
        <p:sp>
          <p:nvSpPr>
            <p:cNvPr id="510" name=""/>
            <p:cNvSpPr/>
            <p:nvPr/>
          </p:nvSpPr>
          <p:spPr>
            <a:xfrm>
              <a:off x="7489800" y="3429000"/>
              <a:ext cx="152640" cy="8049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0880 h 804960"/>
                <a:gd name="textAreaBottom" fmla="*/ 78408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97960" y="372924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L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343320" y="1585800"/>
            <a:ext cx="3994200" cy="806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Asyn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728800" y="1930320"/>
            <a:ext cx="1305000" cy="1190880"/>
            <a:chOff x="2728800" y="1930320"/>
            <a:chExt cx="1305000" cy="1190880"/>
          </a:xfrm>
        </p:grpSpPr>
        <p:sp>
          <p:nvSpPr>
            <p:cNvPr id="514" name=""/>
            <p:cNvSpPr/>
            <p:nvPr/>
          </p:nvSpPr>
          <p:spPr>
            <a:xfrm>
              <a:off x="3419640" y="1930320"/>
              <a:ext cx="61416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27440" y="2314440"/>
              <a:ext cx="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28800" y="2583720"/>
              <a:ext cx="103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0” addr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919680" y="1930320"/>
            <a:ext cx="920520" cy="1190880"/>
            <a:chOff x="3919680" y="1930320"/>
            <a:chExt cx="920520" cy="1190880"/>
          </a:xfrm>
        </p:grpSpPr>
        <p:sp>
          <p:nvSpPr>
            <p:cNvPr id="518" name=""/>
            <p:cNvSpPr/>
            <p:nvPr/>
          </p:nvSpPr>
          <p:spPr>
            <a:xfrm>
              <a:off x="4226040" y="1930320"/>
              <a:ext cx="61416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33840" y="2314440"/>
              <a:ext cx="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9680" y="257796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726080" y="1930320"/>
            <a:ext cx="920520" cy="1190880"/>
            <a:chOff x="4726080" y="1930320"/>
            <a:chExt cx="920520" cy="1190880"/>
          </a:xfrm>
        </p:grpSpPr>
        <p:sp>
          <p:nvSpPr>
            <p:cNvPr id="522" name=""/>
            <p:cNvSpPr/>
            <p:nvPr/>
          </p:nvSpPr>
          <p:spPr>
            <a:xfrm>
              <a:off x="5032440" y="1930320"/>
              <a:ext cx="61416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40240" y="2314440"/>
              <a:ext cx="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6080" y="257796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532480" y="1930320"/>
            <a:ext cx="920880" cy="1190880"/>
            <a:chOff x="5532480" y="1930320"/>
            <a:chExt cx="920880" cy="1190880"/>
          </a:xfrm>
        </p:grpSpPr>
        <p:sp>
          <p:nvSpPr>
            <p:cNvPr id="526" name=""/>
            <p:cNvSpPr/>
            <p:nvPr/>
          </p:nvSpPr>
          <p:spPr>
            <a:xfrm>
              <a:off x="5838840" y="1930320"/>
              <a:ext cx="6145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46640" y="2314440"/>
              <a:ext cx="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32480" y="257796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338880" y="1930320"/>
            <a:ext cx="920880" cy="1190880"/>
            <a:chOff x="6338880" y="1930320"/>
            <a:chExt cx="920880" cy="1190880"/>
          </a:xfrm>
        </p:grpSpPr>
        <p:sp>
          <p:nvSpPr>
            <p:cNvPr id="530" name=""/>
            <p:cNvSpPr/>
            <p:nvPr/>
          </p:nvSpPr>
          <p:spPr>
            <a:xfrm>
              <a:off x="6645240" y="1930320"/>
              <a:ext cx="6145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B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53400" y="2314440"/>
              <a:ext cx="0" cy="80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38880" y="257796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417840" y="3889440"/>
            <a:ext cx="103824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 – Different approach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he information supplied to INP/OU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 the drvAsynSerialPort and drvLove drive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an interpose at layer to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interfaces for the specific model (i.e. love160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method to map the controller address to model typ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need for conditional state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new model type is clean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vie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dware Configura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protoco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Architectur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89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on record initialization scena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89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 AI record scen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veApp standalone applica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89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ization scen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(dbior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M scree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ribu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rovement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nowledgement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 – Different approach, cont…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85960" y="4503600"/>
            <a:ext cx="7758000" cy="1652760"/>
            <a:chOff x="885960" y="4503600"/>
            <a:chExt cx="7758000" cy="1652760"/>
          </a:xfrm>
        </p:grpSpPr>
        <p:sp>
          <p:nvSpPr>
            <p:cNvPr id="538" name=""/>
            <p:cNvSpPr/>
            <p:nvPr/>
          </p:nvSpPr>
          <p:spPr>
            <a:xfrm>
              <a:off x="885960" y="4503600"/>
              <a:ext cx="6451560" cy="1652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rvAsynSerial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961920" y="4811760"/>
              <a:ext cx="6297840" cy="1305000"/>
              <a:chOff x="961920" y="4811760"/>
              <a:chExt cx="6297840" cy="1305000"/>
            </a:xfrm>
          </p:grpSpPr>
          <p:sp>
            <p:nvSpPr>
              <p:cNvPr id="540" name=""/>
              <p:cNvSpPr/>
              <p:nvPr/>
            </p:nvSpPr>
            <p:spPr>
              <a:xfrm>
                <a:off x="2076480" y="4811760"/>
                <a:ext cx="1036440" cy="38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ynComm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19640" y="5732640"/>
                <a:ext cx="3840120" cy="38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ynOct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61920" y="4811760"/>
                <a:ext cx="1036800" cy="38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ynO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419640" y="4811760"/>
              <a:ext cx="38401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erposeE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19640" y="5272200"/>
              <a:ext cx="38401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7491240" y="4851360"/>
              <a:ext cx="1152720" cy="1227240"/>
              <a:chOff x="7491240" y="4851360"/>
              <a:chExt cx="1152720" cy="1227240"/>
            </a:xfrm>
          </p:grpSpPr>
          <p:sp>
            <p:nvSpPr>
              <p:cNvPr id="546" name=""/>
              <p:cNvSpPr/>
              <p:nvPr/>
            </p:nvSpPr>
            <p:spPr>
              <a:xfrm>
                <a:off x="7491240" y="4851360"/>
                <a:ext cx="152640" cy="122724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31680 h 1227240"/>
                  <a:gd name="textAreaBottom" fmla="*/ 1195560 h 122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799400" y="5308200"/>
                <a:ext cx="84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yn Port “S0”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7489800" y="2662200"/>
            <a:ext cx="1152720" cy="1611360"/>
            <a:chOff x="7489800" y="2662200"/>
            <a:chExt cx="1152720" cy="1611360"/>
          </a:xfrm>
        </p:grpSpPr>
        <p:sp>
          <p:nvSpPr>
            <p:cNvPr id="549" name=""/>
            <p:cNvSpPr/>
            <p:nvPr/>
          </p:nvSpPr>
          <p:spPr>
            <a:xfrm>
              <a:off x="7489800" y="2662200"/>
              <a:ext cx="152640" cy="16113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1760 h 1611360"/>
                <a:gd name="textAreaBottom" fmla="*/ 1569600 h 16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97960" y="326304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L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343320" y="1009800"/>
            <a:ext cx="3994200" cy="690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Asyn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43320" y="2314440"/>
            <a:ext cx="3994200" cy="73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pose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2040" y="2584440"/>
            <a:ext cx="103680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1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22960" y="2584440"/>
            <a:ext cx="103680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19640" y="2584440"/>
            <a:ext cx="103644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728800" y="1316160"/>
            <a:ext cx="1305000" cy="997920"/>
            <a:chOff x="2728800" y="1316160"/>
            <a:chExt cx="1305000" cy="997920"/>
          </a:xfrm>
        </p:grpSpPr>
        <p:sp>
          <p:nvSpPr>
            <p:cNvPr id="557" name=""/>
            <p:cNvSpPr/>
            <p:nvPr/>
          </p:nvSpPr>
          <p:spPr>
            <a:xfrm>
              <a:off x="3419640" y="1316160"/>
              <a:ext cx="614160" cy="32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27440" y="16380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28800" y="1841760"/>
              <a:ext cx="103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0” addr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919680" y="1316160"/>
            <a:ext cx="920520" cy="997920"/>
            <a:chOff x="3919680" y="1316160"/>
            <a:chExt cx="920520" cy="997920"/>
          </a:xfrm>
        </p:grpSpPr>
        <p:sp>
          <p:nvSpPr>
            <p:cNvPr id="561" name=""/>
            <p:cNvSpPr/>
            <p:nvPr/>
          </p:nvSpPr>
          <p:spPr>
            <a:xfrm>
              <a:off x="4226040" y="1316160"/>
              <a:ext cx="614160" cy="32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33840" y="16380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19680" y="185904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26080" y="1316160"/>
            <a:ext cx="920520" cy="997920"/>
            <a:chOff x="4726080" y="1316160"/>
            <a:chExt cx="920520" cy="997920"/>
          </a:xfrm>
        </p:grpSpPr>
        <p:sp>
          <p:nvSpPr>
            <p:cNvPr id="565" name=""/>
            <p:cNvSpPr/>
            <p:nvPr/>
          </p:nvSpPr>
          <p:spPr>
            <a:xfrm>
              <a:off x="5032440" y="1316160"/>
              <a:ext cx="614160" cy="32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40240" y="16380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26080" y="185904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532480" y="1316160"/>
            <a:ext cx="920880" cy="997920"/>
            <a:chOff x="5532480" y="1316160"/>
            <a:chExt cx="920880" cy="997920"/>
          </a:xfrm>
        </p:grpSpPr>
        <p:sp>
          <p:nvSpPr>
            <p:cNvPr id="569" name=""/>
            <p:cNvSpPr/>
            <p:nvPr/>
          </p:nvSpPr>
          <p:spPr>
            <a:xfrm>
              <a:off x="5838840" y="1316160"/>
              <a:ext cx="614520" cy="32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46640" y="16380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32480" y="185904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338880" y="1316160"/>
            <a:ext cx="920880" cy="997920"/>
            <a:chOff x="6338880" y="1316160"/>
            <a:chExt cx="920880" cy="997920"/>
          </a:xfrm>
        </p:grpSpPr>
        <p:sp>
          <p:nvSpPr>
            <p:cNvPr id="573" name=""/>
            <p:cNvSpPr/>
            <p:nvPr/>
          </p:nvSpPr>
          <p:spPr>
            <a:xfrm>
              <a:off x="6645240" y="1316160"/>
              <a:ext cx="614520" cy="32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B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53400" y="1638000"/>
              <a:ext cx="0" cy="67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38880" y="185904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491240" y="3429000"/>
            <a:ext cx="1152720" cy="844560"/>
            <a:chOff x="7491240" y="3429000"/>
            <a:chExt cx="1152720" cy="844560"/>
          </a:xfrm>
        </p:grpSpPr>
        <p:sp>
          <p:nvSpPr>
            <p:cNvPr id="577" name=""/>
            <p:cNvSpPr/>
            <p:nvPr/>
          </p:nvSpPr>
          <p:spPr>
            <a:xfrm>
              <a:off x="7491240" y="3429000"/>
              <a:ext cx="152640" cy="8445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960 h 844560"/>
                <a:gd name="textAreaBottom" fmla="*/ 82260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99400" y="374328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L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343320" y="3121200"/>
            <a:ext cx="3994200" cy="1228680"/>
            <a:chOff x="3343320" y="3121200"/>
            <a:chExt cx="3994200" cy="1228680"/>
          </a:xfrm>
        </p:grpSpPr>
        <p:sp>
          <p:nvSpPr>
            <p:cNvPr id="580" name=""/>
            <p:cNvSpPr/>
            <p:nvPr/>
          </p:nvSpPr>
          <p:spPr>
            <a:xfrm>
              <a:off x="3343320" y="3121200"/>
              <a:ext cx="3994200" cy="1228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rv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33840" y="3889440"/>
              <a:ext cx="27259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33840" y="3429000"/>
              <a:ext cx="272592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17840" y="3889440"/>
              <a:ext cx="10382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Comm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ty Kraim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n Sluit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’s all about the interfaces and the methods that implement that interface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amline Controls and Data Acqui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S Operations Di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8400" y="1195560"/>
            <a:ext cx="8191440" cy="47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ve Controll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ment to measure voltage, current, thermocou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models 1600 and 16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is through 2-wire RS48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ice suppor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d support based on MP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support based on Asy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choServer and devMPC were departure poi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s an interpose interf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lone application is avail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-Octal RS232 and RS485 modules can be us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rpose of the new device suppor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s a learning tool for Asyn-based device suppo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e from the unsupported MPF to Asy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oint one as the owner of the modu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OS indepen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Hardware Configuration – RS232 &lt;-&gt; RS485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5960" y="4979880"/>
            <a:ext cx="136656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2774880"/>
            <a:ext cx="2611440" cy="46188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BS XM-Octal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288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3104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15200" y="3429000"/>
            <a:ext cx="1252440" cy="9064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&amp;B Electronic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85LD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5425920"/>
            <a:ext cx="346320" cy="614520"/>
            <a:chOff x="539640" y="5425920"/>
            <a:chExt cx="346320" cy="614520"/>
          </a:xfrm>
        </p:grpSpPr>
        <p:sp>
          <p:nvSpPr>
            <p:cNvPr id="148" name=""/>
            <p:cNvSpPr/>
            <p:nvPr/>
          </p:nvSpPr>
          <p:spPr>
            <a:xfrm>
              <a:off x="577800" y="54259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9640" y="5425920"/>
              <a:ext cx="346320" cy="614520"/>
              <a:chOff x="539640" y="5425920"/>
              <a:chExt cx="346320" cy="61452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577800" y="542592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77800" y="604044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9640" y="5541840"/>
                <a:ext cx="76320" cy="384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19987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9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656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8656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19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87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67560" y="3884760"/>
            <a:ext cx="574560" cy="1541160"/>
            <a:chOff x="7567560" y="3884760"/>
            <a:chExt cx="574560" cy="1541160"/>
          </a:xfrm>
        </p:grpSpPr>
        <p:sp>
          <p:nvSpPr>
            <p:cNvPr id="160" name=""/>
            <p:cNvSpPr/>
            <p:nvPr/>
          </p:nvSpPr>
          <p:spPr>
            <a:xfrm>
              <a:off x="7567560" y="542592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028000" y="4119120"/>
              <a:ext cx="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67560" y="41194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43880" y="3884760"/>
              <a:ext cx="49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(+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567560" y="3429000"/>
            <a:ext cx="692280" cy="2611440"/>
            <a:chOff x="7567560" y="3429000"/>
            <a:chExt cx="692280" cy="2611440"/>
          </a:xfrm>
        </p:grpSpPr>
        <p:sp>
          <p:nvSpPr>
            <p:cNvPr id="165" name=""/>
            <p:cNvSpPr/>
            <p:nvPr/>
          </p:nvSpPr>
          <p:spPr>
            <a:xfrm>
              <a:off x="7567560" y="6040440"/>
              <a:ext cx="6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67560" y="369720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258040" y="3696840"/>
              <a:ext cx="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43880" y="3429000"/>
              <a:ext cx="49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(-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569360" y="2968560"/>
            <a:ext cx="76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68560"/>
            <a:ext cx="7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17920" y="3236400"/>
            <a:ext cx="2035440" cy="578520"/>
            <a:chOff x="4417920" y="3236400"/>
            <a:chExt cx="2035440" cy="578520"/>
          </a:xfrm>
        </p:grpSpPr>
        <p:sp>
          <p:nvSpPr>
            <p:cNvPr id="172" name=""/>
            <p:cNvSpPr/>
            <p:nvPr/>
          </p:nvSpPr>
          <p:spPr>
            <a:xfrm>
              <a:off x="4417920" y="3774960"/>
              <a:ext cx="19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417920" y="323640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54760" y="3538440"/>
              <a:ext cx="49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33800" y="3236760"/>
            <a:ext cx="2419560" cy="962280"/>
            <a:chOff x="4033800" y="3236760"/>
            <a:chExt cx="2419560" cy="962280"/>
          </a:xfrm>
        </p:grpSpPr>
        <p:sp>
          <p:nvSpPr>
            <p:cNvPr id="176" name=""/>
            <p:cNvSpPr/>
            <p:nvPr/>
          </p:nvSpPr>
          <p:spPr>
            <a:xfrm>
              <a:off x="4033800" y="4159080"/>
              <a:ext cx="23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033800" y="323676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4760" y="3922560"/>
              <a:ext cx="49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23720" y="1085760"/>
            <a:ext cx="1165680" cy="2689200"/>
            <a:chOff x="423720" y="1085760"/>
            <a:chExt cx="1165680" cy="2689200"/>
          </a:xfrm>
        </p:grpSpPr>
        <p:grpSp>
          <p:nvGrpSpPr>
            <p:cNvPr id="180" name=""/>
            <p:cNvGrpSpPr/>
            <p:nvPr/>
          </p:nvGrpSpPr>
          <p:grpSpPr>
            <a:xfrm>
              <a:off x="423720" y="1085760"/>
              <a:ext cx="768600" cy="2687760"/>
              <a:chOff x="423720" y="1085760"/>
              <a:chExt cx="768600" cy="2687760"/>
            </a:xfrm>
          </p:grpSpPr>
          <p:sp>
            <p:nvSpPr>
              <p:cNvPr id="181" name=""/>
              <p:cNvSpPr/>
              <p:nvPr/>
            </p:nvSpPr>
            <p:spPr>
              <a:xfrm>
                <a:off x="461880" y="1085760"/>
                <a:ext cx="730440" cy="2687760"/>
              </a:xfrm>
              <a:prstGeom prst="cube">
                <a:avLst>
                  <a:gd name="adj" fmla="val 82814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109080" y="2668680"/>
                <a:ext cx="84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VME51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93720" y="1087560"/>
              <a:ext cx="895680" cy="2687400"/>
              <a:chOff x="693720" y="1087560"/>
              <a:chExt cx="895680" cy="26874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731880" y="1087560"/>
                <a:ext cx="730080" cy="2687400"/>
                <a:chOff x="731880" y="1087560"/>
                <a:chExt cx="730080" cy="26874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31880" y="1087560"/>
                  <a:ext cx="730080" cy="2687400"/>
                </a:xfrm>
                <a:prstGeom prst="cube">
                  <a:avLst>
                    <a:gd name="adj" fmla="val 82814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23760" y="1395360"/>
                  <a:ext cx="500040" cy="1266840"/>
                </a:xfrm>
                <a:prstGeom prst="cube">
                  <a:avLst>
                    <a:gd name="adj" fmla="val 9518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23760" y="2316240"/>
                  <a:ext cx="500040" cy="1266840"/>
                </a:xfrm>
                <a:prstGeom prst="cube">
                  <a:avLst>
                    <a:gd name="adj" fmla="val 9518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rot="16200000">
                <a:off x="-62640" y="2648520"/>
                <a:ext cx="1729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BS 626 (TVME200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9270800">
                <a:off x="770400" y="1793520"/>
                <a:ext cx="84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IP-OCT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808200" y="2238480"/>
            <a:ext cx="3417840" cy="614160"/>
            <a:chOff x="808200" y="2238480"/>
            <a:chExt cx="3417840" cy="614160"/>
          </a:xfrm>
        </p:grpSpPr>
        <p:sp>
          <p:nvSpPr>
            <p:cNvPr id="191" name=""/>
            <p:cNvSpPr/>
            <p:nvPr/>
          </p:nvSpPr>
          <p:spPr>
            <a:xfrm flipV="1">
              <a:off x="4226040" y="223848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8200" y="2276640"/>
              <a:ext cx="337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423720" y="1085760"/>
            <a:ext cx="768600" cy="2687760"/>
            <a:chOff x="423720" y="1085760"/>
            <a:chExt cx="768600" cy="2687760"/>
          </a:xfrm>
        </p:grpSpPr>
        <p:sp>
          <p:nvSpPr>
            <p:cNvPr id="194" name=""/>
            <p:cNvSpPr/>
            <p:nvPr/>
          </p:nvSpPr>
          <p:spPr>
            <a:xfrm>
              <a:off x="461880" y="1085760"/>
              <a:ext cx="730440" cy="2687760"/>
            </a:xfrm>
            <a:prstGeom prst="cube">
              <a:avLst>
                <a:gd name="adj" fmla="val 828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109080" y="266868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VME5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Hardware Configuration – RS485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85960" y="4979880"/>
            <a:ext cx="136656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2774880"/>
            <a:ext cx="2611440" cy="46188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BS XM-Octal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8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3104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5425920"/>
            <a:ext cx="346320" cy="614520"/>
            <a:chOff x="539640" y="5425920"/>
            <a:chExt cx="346320" cy="614520"/>
          </a:xfrm>
        </p:grpSpPr>
        <p:sp>
          <p:nvSpPr>
            <p:cNvPr id="203" name=""/>
            <p:cNvSpPr/>
            <p:nvPr/>
          </p:nvSpPr>
          <p:spPr>
            <a:xfrm>
              <a:off x="577800" y="54259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9640" y="5425920"/>
              <a:ext cx="346320" cy="614520"/>
              <a:chOff x="539640" y="5425920"/>
              <a:chExt cx="346320" cy="61452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77800" y="542592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77800" y="604044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9640" y="5541840"/>
                <a:ext cx="76320" cy="384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9987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419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8656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8656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19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987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7560" y="542592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028000" y="411912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3800" y="4119480"/>
            <a:ext cx="399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56080" y="3884760"/>
            <a:ext cx="49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67560" y="60404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7920" y="3659040"/>
            <a:ext cx="384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258040" y="365868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7880" y="34290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7920" y="32364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3800" y="32367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31880" y="1087560"/>
            <a:ext cx="730080" cy="2687400"/>
            <a:chOff x="731880" y="1087560"/>
            <a:chExt cx="730080" cy="2687400"/>
          </a:xfrm>
        </p:grpSpPr>
        <p:sp>
          <p:nvSpPr>
            <p:cNvPr id="225" name=""/>
            <p:cNvSpPr/>
            <p:nvPr/>
          </p:nvSpPr>
          <p:spPr>
            <a:xfrm>
              <a:off x="731880" y="1087560"/>
              <a:ext cx="730080" cy="2687400"/>
            </a:xfrm>
            <a:prstGeom prst="cube">
              <a:avLst>
                <a:gd name="adj" fmla="val 828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23760" y="1395360"/>
              <a:ext cx="500040" cy="1266840"/>
            </a:xfrm>
            <a:prstGeom prst="cube">
              <a:avLst>
                <a:gd name="adj" fmla="val 9518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760" y="2316240"/>
              <a:ext cx="500040" cy="1266840"/>
            </a:xfrm>
            <a:prstGeom prst="cube">
              <a:avLst>
                <a:gd name="adj" fmla="val 9518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rot="16200000">
            <a:off x="-119520" y="2629440"/>
            <a:ext cx="184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BS 626 (TVME2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9270800">
            <a:off x="770400" y="1793520"/>
            <a:ext cx="84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IP-OC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08200" y="2238480"/>
            <a:ext cx="3417840" cy="614160"/>
            <a:chOff x="808200" y="2238480"/>
            <a:chExt cx="3417840" cy="614160"/>
          </a:xfrm>
        </p:grpSpPr>
        <p:sp>
          <p:nvSpPr>
            <p:cNvPr id="231" name=""/>
            <p:cNvSpPr/>
            <p:nvPr/>
          </p:nvSpPr>
          <p:spPr>
            <a:xfrm flipV="1">
              <a:off x="4226040" y="223848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8200" y="2276640"/>
              <a:ext cx="337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wire RS485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ter/slave protocol, command, response message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format (simp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and received as ASCII he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: &lt;STX&gt;L&lt;ADDR&gt;&lt;CMD&gt;&lt;CS&gt;&lt;ETX&gt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: &lt;STX&gt;L&lt;ADDR&gt;&lt;CMD&gt;&lt;VALUE&gt;&lt;CS&gt;&lt;ETX&gt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: &lt;STX&gt;L&lt;ADDR&gt;&lt;RSP&gt;&lt;CS&gt;&lt;ACK&gt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r: &lt;STX&gt;L&lt;ADDR&gt;N&lt;CODE&gt;&lt;ACK&gt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device support know comman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/OUT fiel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(INP,”@asyn(PORT,ADDR) CMD MODE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oftware Architecture (coarse granularity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1840" y="5388120"/>
            <a:ext cx="8642160" cy="614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rdwar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31840" y="2314440"/>
            <a:ext cx="8680320" cy="1382760"/>
            <a:chOff x="231840" y="2314440"/>
            <a:chExt cx="8680320" cy="1382760"/>
          </a:xfrm>
        </p:grpSpPr>
        <p:sp>
          <p:nvSpPr>
            <p:cNvPr id="238" name=""/>
            <p:cNvSpPr/>
            <p:nvPr/>
          </p:nvSpPr>
          <p:spPr>
            <a:xfrm>
              <a:off x="231840" y="3083040"/>
              <a:ext cx="8680320" cy="614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link Interpose Interface Layer (interposeLovelin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840" y="2314440"/>
              <a:ext cx="7219800" cy="614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 Device Support (devAsynLo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29400" y="1547640"/>
            <a:ext cx="1382760" cy="614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 Record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asynRec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31840" y="1547640"/>
            <a:ext cx="7219800" cy="614520"/>
            <a:chOff x="231840" y="1547640"/>
            <a:chExt cx="7219800" cy="614520"/>
          </a:xfrm>
        </p:grpSpPr>
        <p:sp>
          <p:nvSpPr>
            <p:cNvPr id="242" name=""/>
            <p:cNvSpPr/>
            <p:nvPr/>
          </p:nvSpPr>
          <p:spPr>
            <a:xfrm>
              <a:off x="231840" y="1547640"/>
              <a:ext cx="138240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9056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O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4964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0836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O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6888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BB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31840" y="4619520"/>
            <a:ext cx="864216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ctal IP-Module (tyGSOc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840" y="3851280"/>
            <a:ext cx="8680320" cy="614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vAsynSerial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oftware Architecture (fine granularity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5960" y="4503600"/>
            <a:ext cx="6451560" cy="1460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vAsynSerial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61920" y="4581360"/>
            <a:ext cx="6297840" cy="1305000"/>
            <a:chOff x="961920" y="4581360"/>
            <a:chExt cx="6297840" cy="1305000"/>
          </a:xfrm>
        </p:grpSpPr>
        <p:sp>
          <p:nvSpPr>
            <p:cNvPr id="252" name=""/>
            <p:cNvSpPr/>
            <p:nvPr/>
          </p:nvSpPr>
          <p:spPr>
            <a:xfrm>
              <a:off x="2076480" y="4581360"/>
              <a:ext cx="1036440" cy="3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Comm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2960" y="5502240"/>
              <a:ext cx="103680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61920" y="4581360"/>
              <a:ext cx="1036800" cy="3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222960" y="4581360"/>
            <a:ext cx="1036800" cy="38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pose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22960" y="5041800"/>
            <a:ext cx="103680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ctet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3320" y="3813120"/>
            <a:ext cx="3994200" cy="53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poseLove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2960" y="3889440"/>
            <a:ext cx="103680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Oc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43320" y="2890800"/>
            <a:ext cx="3994200" cy="806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Asyn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419640" y="3236760"/>
            <a:ext cx="3840120" cy="384480"/>
            <a:chOff x="3419640" y="3236760"/>
            <a:chExt cx="3840120" cy="384480"/>
          </a:xfrm>
        </p:grpSpPr>
        <p:sp>
          <p:nvSpPr>
            <p:cNvPr id="261" name=""/>
            <p:cNvSpPr/>
            <p:nvPr/>
          </p:nvSpPr>
          <p:spPr>
            <a:xfrm>
              <a:off x="6645240" y="3236760"/>
              <a:ext cx="614520" cy="384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B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8840" y="3236760"/>
              <a:ext cx="614520" cy="384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2440" y="3236760"/>
              <a:ext cx="614160" cy="384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26040" y="3236760"/>
              <a:ext cx="614160" cy="384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19640" y="3236760"/>
              <a:ext cx="614160" cy="384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491240" y="4619520"/>
            <a:ext cx="1152720" cy="1227240"/>
            <a:chOff x="7491240" y="4619520"/>
            <a:chExt cx="1152720" cy="1227240"/>
          </a:xfrm>
        </p:grpSpPr>
        <p:sp>
          <p:nvSpPr>
            <p:cNvPr id="267" name=""/>
            <p:cNvSpPr/>
            <p:nvPr/>
          </p:nvSpPr>
          <p:spPr>
            <a:xfrm>
              <a:off x="7491240" y="4619520"/>
              <a:ext cx="152640" cy="122724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27240"/>
                <a:gd name="textAreaBottom" fmla="*/ 1195560 h 122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99400" y="507636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S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491240" y="3929040"/>
            <a:ext cx="1152720" cy="1957320"/>
            <a:chOff x="7491240" y="3929040"/>
            <a:chExt cx="1152720" cy="1957320"/>
          </a:xfrm>
        </p:grpSpPr>
        <p:sp>
          <p:nvSpPr>
            <p:cNvPr id="270" name=""/>
            <p:cNvSpPr/>
            <p:nvPr/>
          </p:nvSpPr>
          <p:spPr>
            <a:xfrm>
              <a:off x="7491240" y="3929040"/>
              <a:ext cx="152640" cy="1957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0760 h 1957320"/>
                <a:gd name="textAreaBottom" fmla="*/ 1906560 h 195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9400" y="465912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 Port “S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mmon record initialization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85920" y="1163520"/>
            <a:ext cx="997920" cy="5069160"/>
            <a:chOff x="385920" y="1163520"/>
            <a:chExt cx="997920" cy="5069160"/>
          </a:xfrm>
        </p:grpSpPr>
        <p:sp>
          <p:nvSpPr>
            <p:cNvPr id="274" name=""/>
            <p:cNvSpPr/>
            <p:nvPr/>
          </p:nvSpPr>
          <p:spPr>
            <a:xfrm>
              <a:off x="385920" y="1163520"/>
              <a:ext cx="99792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48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68320" y="1163520"/>
            <a:ext cx="998280" cy="5069160"/>
            <a:chOff x="1768320" y="1163520"/>
            <a:chExt cx="998280" cy="5069160"/>
          </a:xfrm>
        </p:grpSpPr>
        <p:sp>
          <p:nvSpPr>
            <p:cNvPr id="277" name=""/>
            <p:cNvSpPr/>
            <p:nvPr/>
          </p:nvSpPr>
          <p:spPr>
            <a:xfrm>
              <a:off x="17683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672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071960" y="1163520"/>
            <a:ext cx="998280" cy="5069160"/>
            <a:chOff x="4071960" y="1163520"/>
            <a:chExt cx="998280" cy="5069160"/>
          </a:xfrm>
        </p:grpSpPr>
        <p:sp>
          <p:nvSpPr>
            <p:cNvPr id="280" name=""/>
            <p:cNvSpPr/>
            <p:nvPr/>
          </p:nvSpPr>
          <p:spPr>
            <a:xfrm>
              <a:off x="407196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09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78400" y="1163520"/>
            <a:ext cx="1152360" cy="5069160"/>
            <a:chOff x="5378400" y="1163520"/>
            <a:chExt cx="1152360" cy="5069160"/>
          </a:xfrm>
        </p:grpSpPr>
        <p:sp>
          <p:nvSpPr>
            <p:cNvPr id="283" name=""/>
            <p:cNvSpPr/>
            <p:nvPr/>
          </p:nvSpPr>
          <p:spPr>
            <a:xfrm>
              <a:off x="5378400" y="1163520"/>
              <a:ext cx="11523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544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85960" y="1733400"/>
            <a:ext cx="1380960" cy="276480"/>
            <a:chOff x="885960" y="1733400"/>
            <a:chExt cx="1380960" cy="276480"/>
          </a:xfrm>
        </p:grpSpPr>
        <p:sp>
          <p:nvSpPr>
            <p:cNvPr id="286" name=""/>
            <p:cNvSpPr/>
            <p:nvPr/>
          </p:nvSpPr>
          <p:spPr>
            <a:xfrm>
              <a:off x="885960" y="1969920"/>
              <a:ext cx="13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5960" y="1733400"/>
              <a:ext cx="132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XX__ini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728800" y="1969920"/>
            <a:ext cx="1842840" cy="276480"/>
            <a:chOff x="2728800" y="1969920"/>
            <a:chExt cx="1842840" cy="276480"/>
          </a:xfrm>
        </p:grpSpPr>
        <p:sp>
          <p:nvSpPr>
            <p:cNvPr id="289" name=""/>
            <p:cNvSpPr/>
            <p:nvPr/>
          </p:nvSpPr>
          <p:spPr>
            <a:xfrm>
              <a:off x="2728800" y="223812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2760" y="196992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reateAsynUser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727360" y="2309760"/>
            <a:ext cx="3226680" cy="276480"/>
            <a:chOff x="2727360" y="2309760"/>
            <a:chExt cx="3226680" cy="276480"/>
          </a:xfrm>
        </p:grpSpPr>
        <p:sp>
          <p:nvSpPr>
            <p:cNvPr id="292" name=""/>
            <p:cNvSpPr/>
            <p:nvPr/>
          </p:nvSpPr>
          <p:spPr>
            <a:xfrm>
              <a:off x="2727360" y="2577960"/>
              <a:ext cx="32266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0" y="2309760"/>
              <a:ext cx="27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arseLink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727360" y="3467160"/>
            <a:ext cx="1344600" cy="460440"/>
            <a:chOff x="2727360" y="3467160"/>
            <a:chExt cx="1344600" cy="460440"/>
          </a:xfrm>
        </p:grpSpPr>
        <p:grpSp>
          <p:nvGrpSpPr>
            <p:cNvPr id="295" name=""/>
            <p:cNvGrpSpPr/>
            <p:nvPr/>
          </p:nvGrpSpPr>
          <p:grpSpPr>
            <a:xfrm>
              <a:off x="2727360" y="3735720"/>
              <a:ext cx="461880" cy="191880"/>
              <a:chOff x="2727360" y="3735720"/>
              <a:chExt cx="461880" cy="191880"/>
            </a:xfrm>
          </p:grpSpPr>
          <p:sp>
            <p:nvSpPr>
              <p:cNvPr id="296" name=""/>
              <p:cNvSpPr/>
              <p:nvPr/>
            </p:nvSpPr>
            <p:spPr>
              <a:xfrm>
                <a:off x="2727360" y="3735720"/>
                <a:ext cx="461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27360" y="3927600"/>
                <a:ext cx="461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89240" y="3735720"/>
                <a:ext cx="0" cy="191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766960" y="346716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alidateParam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28800" y="2693880"/>
            <a:ext cx="1842840" cy="276480"/>
            <a:chOff x="2728800" y="2693880"/>
            <a:chExt cx="1842840" cy="276480"/>
          </a:xfrm>
        </p:grpSpPr>
        <p:sp>
          <p:nvSpPr>
            <p:cNvPr id="301" name=""/>
            <p:cNvSpPr/>
            <p:nvPr/>
          </p:nvSpPr>
          <p:spPr>
            <a:xfrm>
              <a:off x="2728800" y="296208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12760" y="269388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nectDevic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728800" y="3078000"/>
            <a:ext cx="1842840" cy="276480"/>
            <a:chOff x="2728800" y="3078000"/>
            <a:chExt cx="1842840" cy="276480"/>
          </a:xfrm>
        </p:grpSpPr>
        <p:sp>
          <p:nvSpPr>
            <p:cNvPr id="304" name=""/>
            <p:cNvSpPr/>
            <p:nvPr/>
          </p:nvSpPr>
          <p:spPr>
            <a:xfrm>
              <a:off x="2728800" y="334620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12760" y="307800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ndInterfac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66920" y="1816200"/>
            <a:ext cx="1344600" cy="2261520"/>
            <a:chOff x="2266920" y="1816200"/>
            <a:chExt cx="1344600" cy="2261520"/>
          </a:xfrm>
        </p:grpSpPr>
        <p:grpSp>
          <p:nvGrpSpPr>
            <p:cNvPr id="307" name=""/>
            <p:cNvGrpSpPr/>
            <p:nvPr/>
          </p:nvGrpSpPr>
          <p:grpSpPr>
            <a:xfrm>
              <a:off x="2266920" y="2084400"/>
              <a:ext cx="461880" cy="1993320"/>
              <a:chOff x="2266920" y="2084400"/>
              <a:chExt cx="461880" cy="1993320"/>
            </a:xfrm>
          </p:grpSpPr>
          <p:sp>
            <p:nvSpPr>
              <p:cNvPr id="308" name=""/>
              <p:cNvSpPr/>
              <p:nvPr/>
            </p:nvSpPr>
            <p:spPr>
              <a:xfrm>
                <a:off x="2266920" y="208440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66920" y="407772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28800" y="2084400"/>
                <a:ext cx="0" cy="199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2306520" y="181620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__recordIni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Kline</cp:lastModifiedBy>
  <dcterms:modified xsi:type="dcterms:W3CDTF">2005-04-09T12:50:53Z</dcterms:modified>
  <cp:revision>89</cp:revision>
  <dc:subject/>
  <dc:title>BCDA Code Inspections</dc:title>
</cp:coreProperties>
</file>