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98040" y="3257640"/>
            <a:ext cx="817740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8040" y="325764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88080" y="325764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63200" y="146052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28360" y="146052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98040" y="325764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63200" y="325764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28360" y="325764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8520" y="369360"/>
            <a:ext cx="874728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98040" y="325764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88080" y="325764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98040" y="3257640"/>
            <a:ext cx="817740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98040" y="3257640"/>
            <a:ext cx="817740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98040" y="325764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88080" y="325764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63200" y="146052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28360" y="146052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98040" y="325764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63200" y="325764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28360" y="3257640"/>
            <a:ext cx="26330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8520" y="369360"/>
            <a:ext cx="874728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25764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88080" y="325764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8080" y="1460520"/>
            <a:ext cx="399024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040" y="3257640"/>
            <a:ext cx="8177400" cy="16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847880" y="6303960"/>
            <a:ext cx="5403960" cy="422280"/>
            <a:chOff x="1847880" y="6303960"/>
            <a:chExt cx="5403960" cy="422280"/>
          </a:xfrm>
        </p:grpSpPr>
        <p:sp>
          <p:nvSpPr>
            <p:cNvPr id="1" name=""/>
            <p:cNvSpPr/>
            <p:nvPr/>
          </p:nvSpPr>
          <p:spPr>
            <a:xfrm>
              <a:off x="1847880" y="6303960"/>
              <a:ext cx="5403960" cy="422280"/>
            </a:xfrm>
            <a:prstGeom prst="roundRect">
              <a:avLst>
                <a:gd name="adj" fmla="val 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847880" y="6395400"/>
              <a:ext cx="54039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evAsynLove: An Asyn-based device support for the Love 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14200" y="6303960"/>
            <a:ext cx="400320" cy="36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27160" y="6262560"/>
            <a:ext cx="8662680" cy="1800"/>
          </a:xfrm>
          <a:prstGeom prst="line">
            <a:avLst/>
          </a:prstGeom>
          <a:ln w="1260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31360" y="6031080"/>
            <a:ext cx="35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0DFB6853-72C2-4413-9357-DF9F55CF3A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2200" y="6293160"/>
            <a:ext cx="13334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Pioneering 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Science and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7160" y="920880"/>
            <a:ext cx="8642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167600" y="6282000"/>
            <a:ext cx="113508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fice of Sci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U.S. Depart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305920" y="6297480"/>
            <a:ext cx="593640" cy="351000"/>
            <a:chOff x="8305920" y="6297480"/>
            <a:chExt cx="593640" cy="351000"/>
          </a:xfrm>
        </p:grpSpPr>
        <p:pic>
          <p:nvPicPr>
            <p:cNvPr id="10" name="" descr=""/>
            <p:cNvPicPr/>
            <p:nvPr/>
          </p:nvPicPr>
          <p:blipFill>
            <a:blip r:embed="rId3"/>
            <a:stretch/>
          </p:blipFill>
          <p:spPr>
            <a:xfrm>
              <a:off x="8305920" y="6297480"/>
              <a:ext cx="59364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8565480" y="6442920"/>
              <a:ext cx="75960" cy="7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4"/>
          <a:stretch/>
        </p:blipFill>
        <p:spPr>
          <a:xfrm>
            <a:off x="8290080" y="39600"/>
            <a:ext cx="814320" cy="81432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752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752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752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19560" y="5895360"/>
            <a:ext cx="52578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U.S. Department of Energy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ffice of Science Labo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erated by The University of Chic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213760" y="5977080"/>
            <a:ext cx="549360" cy="550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583400" y="5977080"/>
            <a:ext cx="443160" cy="550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57440" y="5821200"/>
            <a:ext cx="6200640" cy="1800"/>
          </a:xfrm>
          <a:prstGeom prst="line">
            <a:avLst/>
          </a:prstGeom>
          <a:ln w="1908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5000" y="5505840"/>
            <a:ext cx="49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521800" y="6405480"/>
            <a:ext cx="737280" cy="56520"/>
            <a:chOff x="2521800" y="6405480"/>
            <a:chExt cx="737280" cy="56520"/>
          </a:xfrm>
        </p:grpSpPr>
        <p:sp>
          <p:nvSpPr>
            <p:cNvPr id="58" name=""/>
            <p:cNvSpPr/>
            <p:nvPr/>
          </p:nvSpPr>
          <p:spPr>
            <a:xfrm>
              <a:off x="2548080" y="6405480"/>
              <a:ext cx="711000" cy="41400"/>
            </a:xfrm>
            <a:prstGeom prst="roundRect">
              <a:avLst>
                <a:gd name="adj" fmla="val 384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2521800" y="6405480"/>
              <a:ext cx="726120" cy="56520"/>
              <a:chOff x="2521800" y="6405480"/>
              <a:chExt cx="726120" cy="56520"/>
            </a:xfrm>
          </p:grpSpPr>
          <p:sp>
            <p:nvSpPr>
              <p:cNvPr id="60" name=""/>
              <p:cNvSpPr/>
              <p:nvPr/>
            </p:nvSpPr>
            <p:spPr>
              <a:xfrm>
                <a:off x="2548080" y="6405480"/>
                <a:ext cx="699840" cy="32040"/>
              </a:xfrm>
              <a:prstGeom prst="roundRect">
                <a:avLst>
                  <a:gd name="adj" fmla="val 454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2521800" y="6405480"/>
                <a:ext cx="716760" cy="56520"/>
                <a:chOff x="2521800" y="6405480"/>
                <a:chExt cx="716760" cy="565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2548080" y="6405480"/>
                  <a:ext cx="690480" cy="27720"/>
                </a:xfrm>
                <a:prstGeom prst="roundRect">
                  <a:avLst>
                    <a:gd name="adj" fmla="val 5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" name=""/>
                <p:cNvGrpSpPr/>
                <p:nvPr/>
              </p:nvGrpSpPr>
              <p:grpSpPr>
                <a:xfrm>
                  <a:off x="2521800" y="6405480"/>
                  <a:ext cx="715320" cy="56520"/>
                  <a:chOff x="2521800" y="6405480"/>
                  <a:chExt cx="715320" cy="5652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2548080" y="6405480"/>
                    <a:ext cx="684000" cy="20520"/>
                  </a:xfrm>
                  <a:prstGeom prst="roundRect">
                    <a:avLst>
                      <a:gd name="adj" fmla="val 625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" name=""/>
                  <p:cNvGrpSpPr/>
                  <p:nvPr/>
                </p:nvGrpSpPr>
                <p:grpSpPr>
                  <a:xfrm>
                    <a:off x="2521800" y="6405480"/>
                    <a:ext cx="715320" cy="56520"/>
                    <a:chOff x="2521800" y="6405480"/>
                    <a:chExt cx="715320" cy="5652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548080" y="6405480"/>
                      <a:ext cx="677520" cy="16560"/>
                    </a:xfrm>
                    <a:prstGeom prst="roundRect">
                      <a:avLst>
                        <a:gd name="adj" fmla="val 713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7" name=""/>
                    <p:cNvGrpSpPr/>
                    <p:nvPr/>
                  </p:nvGrpSpPr>
                  <p:grpSpPr>
                    <a:xfrm>
                      <a:off x="2521800" y="6405480"/>
                      <a:ext cx="715320" cy="56520"/>
                      <a:chOff x="2521800" y="6405480"/>
                      <a:chExt cx="715320" cy="56520"/>
                    </a:xfrm>
                  </p:grpSpPr>
                  <p:sp>
                    <p:nvSpPr>
                      <p:cNvPr id="68" name=""/>
                      <p:cNvSpPr/>
                      <p:nvPr/>
                    </p:nvSpPr>
                    <p:spPr>
                      <a:xfrm>
                        <a:off x="2548080" y="6405480"/>
                        <a:ext cx="669600" cy="12960"/>
                      </a:xfrm>
                      <a:prstGeom prst="roundRect">
                        <a:avLst>
                          <a:gd name="adj" fmla="val 833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3840" bIns="-33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2521800" y="6405480"/>
                        <a:ext cx="715320" cy="56520"/>
                        <a:chOff x="2521800" y="6405480"/>
                        <a:chExt cx="715320" cy="5652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2548080" y="6405480"/>
                          <a:ext cx="666360" cy="10800"/>
                        </a:xfrm>
                        <a:prstGeom prst="roundRect">
                          <a:avLst>
                            <a:gd name="adj" fmla="val 10000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6000" bIns="-36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1" name=""/>
                        <p:cNvGrpSpPr/>
                        <p:nvPr/>
                      </p:nvGrpSpPr>
                      <p:grpSpPr>
                        <a:xfrm>
                          <a:off x="2521800" y="6405480"/>
                          <a:ext cx="715320" cy="56520"/>
                          <a:chOff x="2521800" y="6405480"/>
                          <a:chExt cx="715320" cy="56520"/>
                        </a:xfrm>
                      </p:grpSpPr>
                      <p:sp>
                        <p:nvSpPr>
                          <p:cNvPr id="72" name=""/>
                          <p:cNvSpPr/>
                          <p:nvPr/>
                        </p:nvSpPr>
                        <p:spPr>
                          <a:xfrm>
                            <a:off x="2548080" y="6405480"/>
                            <a:ext cx="664560" cy="8640"/>
                          </a:xfrm>
                          <a:prstGeom prst="roundRect">
                            <a:avLst>
                              <a:gd name="adj" fmla="val 10000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8160" bIns="-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" name=""/>
                          <p:cNvSpPr/>
                          <p:nvPr/>
                        </p:nvSpPr>
                        <p:spPr>
                          <a:xfrm>
                            <a:off x="2521800" y="6405480"/>
                            <a:ext cx="715320" cy="56520"/>
                          </a:xfrm>
                          <a:prstGeom prst="roundRect">
                            <a:avLst>
                              <a:gd name="adj" fmla="val 10000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0" rIns="0" tIns="0" bIns="0" anchor="t">
                            <a:spAutoFit/>
                          </a:bodyPr>
                          <a:p>
                            <a:pPr algn="ctr">
                              <a:lnSpc>
                                <a:spcPct val="50000"/>
                              </a:lnSpc>
                              <a:spcBef>
                                <a:spcPts val="437"/>
                              </a:spcBef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700" spc="-1" strike="noStrike">
                                <a:solidFill>
                                  <a:srgbClr val="1a1818"/>
                                </a:solidFill>
                                <a:latin typeface="Arial"/>
                              </a:rPr>
                              <a:t>Office of Science</a:t>
                            </a:r>
                            <a:endParaRPr b="0" lang="en-US" sz="7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</p:grpSp>
      <p:grpSp>
        <p:nvGrpSpPr>
          <p:cNvPr id="74" name=""/>
          <p:cNvGrpSpPr/>
          <p:nvPr/>
        </p:nvGrpSpPr>
        <p:grpSpPr>
          <a:xfrm>
            <a:off x="2558160" y="6486480"/>
            <a:ext cx="658080" cy="42480"/>
            <a:chOff x="2558160" y="6486480"/>
            <a:chExt cx="658080" cy="42480"/>
          </a:xfrm>
        </p:grpSpPr>
        <p:sp>
          <p:nvSpPr>
            <p:cNvPr id="75" name=""/>
            <p:cNvSpPr/>
            <p:nvPr/>
          </p:nvSpPr>
          <p:spPr>
            <a:xfrm>
              <a:off x="2589120" y="6486480"/>
              <a:ext cx="627120" cy="17640"/>
            </a:xfrm>
            <a:prstGeom prst="roundRect">
              <a:avLst>
                <a:gd name="adj" fmla="val 8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558160" y="6486480"/>
              <a:ext cx="646920" cy="42480"/>
              <a:chOff x="2558160" y="6486480"/>
              <a:chExt cx="646920" cy="42480"/>
            </a:xfrm>
          </p:grpSpPr>
          <p:sp>
            <p:nvSpPr>
              <p:cNvPr id="77" name=""/>
              <p:cNvSpPr/>
              <p:nvPr/>
            </p:nvSpPr>
            <p:spPr>
              <a:xfrm>
                <a:off x="2589120" y="6486480"/>
                <a:ext cx="615960" cy="10080"/>
              </a:xfrm>
              <a:prstGeom prst="roundRect">
                <a:avLst>
                  <a:gd name="adj" fmla="val 125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2558160" y="6486480"/>
                <a:ext cx="641880" cy="42480"/>
                <a:chOff x="2558160" y="6486480"/>
                <a:chExt cx="641880" cy="424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2589120" y="6486480"/>
                  <a:ext cx="608040" cy="5040"/>
                </a:xfrm>
                <a:prstGeom prst="roundRect">
                  <a:avLst>
                    <a:gd name="adj" fmla="val 25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2558160" y="6486480"/>
                  <a:ext cx="641880" cy="42480"/>
                  <a:chOff x="2558160" y="6486480"/>
                  <a:chExt cx="641880" cy="4248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2589120" y="6486480"/>
                    <a:ext cx="600120" cy="180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2558160" y="6486480"/>
                    <a:ext cx="641880" cy="42480"/>
                    <a:chOff x="2558160" y="6486480"/>
                    <a:chExt cx="641880" cy="4248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2589120" y="6486480"/>
                      <a:ext cx="593640" cy="720"/>
                    </a:xfrm>
                    <a:prstGeom prst="roundRect">
                      <a:avLst>
                        <a:gd name="adj" fmla="val 5000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6080" bIns="-46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2558160" y="6486480"/>
                      <a:ext cx="641880" cy="42480"/>
                      <a:chOff x="2558160" y="6486480"/>
                      <a:chExt cx="641880" cy="4248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2589120" y="6486480"/>
                        <a:ext cx="587160" cy="36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6440" bIns="-46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6" name=""/>
                      <p:cNvGrpSpPr/>
                      <p:nvPr/>
                    </p:nvGrpSpPr>
                    <p:grpSpPr>
                      <a:xfrm>
                        <a:off x="2558160" y="6486480"/>
                        <a:ext cx="641880" cy="42480"/>
                        <a:chOff x="2558160" y="6486480"/>
                        <a:chExt cx="641880" cy="42480"/>
                      </a:xfrm>
                    </p:grpSpPr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>
                          <a:off x="2589120" y="6486480"/>
                          <a:ext cx="582480" cy="360"/>
                        </a:xfrm>
                        <a:prstGeom prst="roundRect">
                          <a:avLst>
                            <a:gd name="adj" fmla="val 50000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46440" bIns="-46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88" name=""/>
                        <p:cNvGrpSpPr/>
                        <p:nvPr/>
                      </p:nvGrpSpPr>
                      <p:grpSpPr>
                        <a:xfrm>
                          <a:off x="2558160" y="6486480"/>
                          <a:ext cx="641880" cy="42480"/>
                          <a:chOff x="2558160" y="6486480"/>
                          <a:chExt cx="641880" cy="42480"/>
                        </a:xfrm>
                      </p:grpSpPr>
                      <p:sp>
                        <p:nvSpPr>
                          <p:cNvPr id="89" name=""/>
                          <p:cNvSpPr/>
                          <p:nvPr/>
                        </p:nvSpPr>
                        <p:spPr>
                          <a:xfrm>
                            <a:off x="2589120" y="6486480"/>
                            <a:ext cx="581040" cy="360"/>
                          </a:xfrm>
                          <a:prstGeom prst="roundRect">
                            <a:avLst>
                              <a:gd name="adj" fmla="val 50000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6440" bIns="-46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0" name=""/>
                          <p:cNvSpPr/>
                          <p:nvPr/>
                        </p:nvSpPr>
                        <p:spPr>
                          <a:xfrm>
                            <a:off x="2558160" y="6486480"/>
                            <a:ext cx="641880" cy="42480"/>
                          </a:xfrm>
                          <a:prstGeom prst="roundRect">
                            <a:avLst>
                              <a:gd name="adj" fmla="val 50000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0" rIns="0" tIns="0" bIns="0" anchor="t">
                            <a:spAutoFit/>
                          </a:bodyPr>
                          <a:p>
                            <a:pPr algn="ctr">
                              <a:lnSpc>
                                <a:spcPct val="50000"/>
                              </a:lnSpc>
                              <a:spcBef>
                                <a:spcPts val="249"/>
                              </a:spcBef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400" spc="-1" strike="noStrike">
                                <a:solidFill>
                                  <a:srgbClr val="1a1818"/>
                                </a:solidFill>
                                <a:latin typeface="Arial"/>
                              </a:rPr>
                              <a:t>U.S. Department of Energy</a:t>
                            </a:r>
                            <a:endParaRPr b="0" lang="en-US" sz="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</p:grpSp>
      <p:grpSp>
        <p:nvGrpSpPr>
          <p:cNvPr id="91" name=""/>
          <p:cNvGrpSpPr/>
          <p:nvPr/>
        </p:nvGrpSpPr>
        <p:grpSpPr>
          <a:xfrm>
            <a:off x="2558880" y="5979960"/>
            <a:ext cx="684360" cy="360360"/>
            <a:chOff x="2558880" y="5979960"/>
            <a:chExt cx="684360" cy="360360"/>
          </a:xfrm>
        </p:grpSpPr>
        <p:pic>
          <p:nvPicPr>
            <p:cNvPr id="92" name="" descr=""/>
            <p:cNvPicPr/>
            <p:nvPr/>
          </p:nvPicPr>
          <p:blipFill>
            <a:blip r:embed="rId5"/>
            <a:stretch/>
          </p:blipFill>
          <p:spPr>
            <a:xfrm>
              <a:off x="2558880" y="5979960"/>
              <a:ext cx="684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863080" y="6132960"/>
              <a:ext cx="8208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290080" y="39600"/>
            <a:ext cx="814320" cy="8143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57360" y="2044800"/>
            <a:ext cx="643752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7947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752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752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752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57000" y="1515960"/>
            <a:ext cx="64515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CDA Cross Training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457360" y="3200400"/>
            <a:ext cx="6461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ve Controller Suppor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43320" y="4095720"/>
            <a:ext cx="64609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id K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ril 4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loveApp Initialization Scenario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3680" y="1163520"/>
            <a:ext cx="844560" cy="5069160"/>
            <a:chOff x="463680" y="1163520"/>
            <a:chExt cx="844560" cy="5069160"/>
          </a:xfrm>
        </p:grpSpPr>
        <p:sp>
          <p:nvSpPr>
            <p:cNvPr id="362" name=""/>
            <p:cNvSpPr/>
            <p:nvPr/>
          </p:nvSpPr>
          <p:spPr>
            <a:xfrm>
              <a:off x="463680" y="1163520"/>
              <a:ext cx="84456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tart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md 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8596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844640" y="1163520"/>
            <a:ext cx="844560" cy="5069160"/>
            <a:chOff x="1844640" y="1163520"/>
            <a:chExt cx="844560" cy="5069160"/>
          </a:xfrm>
        </p:grpSpPr>
        <p:sp>
          <p:nvSpPr>
            <p:cNvPr id="365" name=""/>
            <p:cNvSpPr/>
            <p:nvPr/>
          </p:nvSpPr>
          <p:spPr>
            <a:xfrm>
              <a:off x="1844640" y="1163520"/>
              <a:ext cx="84456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Octal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P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6692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227400" y="1163520"/>
            <a:ext cx="844560" cy="5069160"/>
            <a:chOff x="3227400" y="1163520"/>
            <a:chExt cx="844560" cy="5069160"/>
          </a:xfrm>
        </p:grpSpPr>
        <p:sp>
          <p:nvSpPr>
            <p:cNvPr id="368" name=""/>
            <p:cNvSpPr/>
            <p:nvPr/>
          </p:nvSpPr>
          <p:spPr>
            <a:xfrm>
              <a:off x="3227400" y="1163520"/>
              <a:ext cx="84456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rt 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4968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72040" y="1163520"/>
            <a:ext cx="844560" cy="5069160"/>
            <a:chOff x="5072040" y="1163520"/>
            <a:chExt cx="844560" cy="5069160"/>
          </a:xfrm>
        </p:grpSpPr>
        <p:sp>
          <p:nvSpPr>
            <p:cNvPr id="371" name=""/>
            <p:cNvSpPr/>
            <p:nvPr/>
          </p:nvSpPr>
          <p:spPr>
            <a:xfrm>
              <a:off x="5072040" y="1163520"/>
              <a:ext cx="84456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e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terp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9432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454800" y="1163520"/>
            <a:ext cx="844560" cy="5069160"/>
            <a:chOff x="6454800" y="1163520"/>
            <a:chExt cx="844560" cy="5069160"/>
          </a:xfrm>
        </p:grpSpPr>
        <p:sp>
          <p:nvSpPr>
            <p:cNvPr id="374" name=""/>
            <p:cNvSpPr/>
            <p:nvPr/>
          </p:nvSpPr>
          <p:spPr>
            <a:xfrm>
              <a:off x="6454800" y="1163520"/>
              <a:ext cx="84456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7708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7721640" y="1163520"/>
            <a:ext cx="998280" cy="5069160"/>
            <a:chOff x="7721640" y="1163520"/>
            <a:chExt cx="998280" cy="5069160"/>
          </a:xfrm>
        </p:grpSpPr>
        <p:sp>
          <p:nvSpPr>
            <p:cNvPr id="377" name=""/>
            <p:cNvSpPr/>
            <p:nvPr/>
          </p:nvSpPr>
          <p:spPr>
            <a:xfrm>
              <a:off x="7721640" y="1163520"/>
              <a:ext cx="99828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e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vice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2060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885960" y="1547640"/>
            <a:ext cx="1404720" cy="276480"/>
            <a:chOff x="885960" y="1547640"/>
            <a:chExt cx="1404720" cy="276480"/>
          </a:xfrm>
        </p:grpSpPr>
        <p:sp>
          <p:nvSpPr>
            <p:cNvPr id="380" name=""/>
            <p:cNvSpPr/>
            <p:nvPr/>
          </p:nvSpPr>
          <p:spPr>
            <a:xfrm>
              <a:off x="885960" y="1815840"/>
              <a:ext cx="1404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23840" y="1547640"/>
              <a:ext cx="119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it IP carr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885960" y="2814480"/>
            <a:ext cx="2763360" cy="276480"/>
            <a:chOff x="885960" y="2814480"/>
            <a:chExt cx="2763360" cy="276480"/>
          </a:xfrm>
        </p:grpSpPr>
        <p:sp>
          <p:nvSpPr>
            <p:cNvPr id="383" name=""/>
            <p:cNvSpPr/>
            <p:nvPr/>
          </p:nvSpPr>
          <p:spPr>
            <a:xfrm>
              <a:off x="885960" y="3082680"/>
              <a:ext cx="2763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57760" y="2814480"/>
              <a:ext cx="234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it Serial 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885960" y="4197240"/>
            <a:ext cx="5991120" cy="276480"/>
            <a:chOff x="885960" y="4197240"/>
            <a:chExt cx="5991120" cy="276480"/>
          </a:xfrm>
        </p:grpSpPr>
        <p:sp>
          <p:nvSpPr>
            <p:cNvPr id="386" name=""/>
            <p:cNvSpPr/>
            <p:nvPr/>
          </p:nvSpPr>
          <p:spPr>
            <a:xfrm>
              <a:off x="885960" y="4465440"/>
              <a:ext cx="599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60400" y="4197240"/>
              <a:ext cx="50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ad 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877080" y="5848200"/>
            <a:ext cx="1343160" cy="276480"/>
            <a:chOff x="6877080" y="5848200"/>
            <a:chExt cx="1343160" cy="276480"/>
          </a:xfrm>
        </p:grpSpPr>
        <p:sp>
          <p:nvSpPr>
            <p:cNvPr id="389" name=""/>
            <p:cNvSpPr/>
            <p:nvPr/>
          </p:nvSpPr>
          <p:spPr>
            <a:xfrm>
              <a:off x="6877080" y="6116400"/>
              <a:ext cx="1343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009200" y="584820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it record ins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885960" y="3697200"/>
            <a:ext cx="4607280" cy="276480"/>
            <a:chOff x="885960" y="3697200"/>
            <a:chExt cx="4607280" cy="276480"/>
          </a:xfrm>
        </p:grpSpPr>
        <p:sp>
          <p:nvSpPr>
            <p:cNvPr id="392" name=""/>
            <p:cNvSpPr/>
            <p:nvPr/>
          </p:nvSpPr>
          <p:spPr>
            <a:xfrm>
              <a:off x="885960" y="3965400"/>
              <a:ext cx="460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39200" y="3697200"/>
              <a:ext cx="39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it Interpose Lovel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885960" y="4581360"/>
            <a:ext cx="5991120" cy="276480"/>
            <a:chOff x="885960" y="4581360"/>
            <a:chExt cx="5991120" cy="276480"/>
          </a:xfrm>
        </p:grpSpPr>
        <p:sp>
          <p:nvSpPr>
            <p:cNvPr id="395" name=""/>
            <p:cNvSpPr/>
            <p:nvPr/>
          </p:nvSpPr>
          <p:spPr>
            <a:xfrm>
              <a:off x="885960" y="4849560"/>
              <a:ext cx="599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60400" y="4581360"/>
              <a:ext cx="50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gister record,device,driv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885960" y="4965840"/>
            <a:ext cx="5991120" cy="276480"/>
            <a:chOff x="885960" y="4965840"/>
            <a:chExt cx="5991120" cy="276480"/>
          </a:xfrm>
        </p:grpSpPr>
        <p:sp>
          <p:nvSpPr>
            <p:cNvPr id="398" name=""/>
            <p:cNvSpPr/>
            <p:nvPr/>
          </p:nvSpPr>
          <p:spPr>
            <a:xfrm>
              <a:off x="885960" y="5234040"/>
              <a:ext cx="599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60400" y="4965840"/>
              <a:ext cx="50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ad database recor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885960" y="5464080"/>
            <a:ext cx="5991120" cy="276480"/>
            <a:chOff x="885960" y="5464080"/>
            <a:chExt cx="5991120" cy="276480"/>
          </a:xfrm>
        </p:grpSpPr>
        <p:sp>
          <p:nvSpPr>
            <p:cNvPr id="401" name=""/>
            <p:cNvSpPr/>
            <p:nvPr/>
          </p:nvSpPr>
          <p:spPr>
            <a:xfrm>
              <a:off x="885960" y="5726160"/>
              <a:ext cx="599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60400" y="5464080"/>
              <a:ext cx="50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it I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885960" y="3198960"/>
            <a:ext cx="2763360" cy="276480"/>
            <a:chOff x="885960" y="3198960"/>
            <a:chExt cx="2763360" cy="276480"/>
          </a:xfrm>
        </p:grpSpPr>
        <p:sp>
          <p:nvSpPr>
            <p:cNvPr id="404" name=""/>
            <p:cNvSpPr/>
            <p:nvPr/>
          </p:nvSpPr>
          <p:spPr>
            <a:xfrm>
              <a:off x="885960" y="3466800"/>
              <a:ext cx="2763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57760" y="3198960"/>
              <a:ext cx="234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onfig Serial 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885960" y="2309760"/>
            <a:ext cx="1404720" cy="276480"/>
            <a:chOff x="885960" y="2309760"/>
            <a:chExt cx="1404720" cy="276480"/>
          </a:xfrm>
        </p:grpSpPr>
        <p:sp>
          <p:nvSpPr>
            <p:cNvPr id="407" name=""/>
            <p:cNvSpPr/>
            <p:nvPr/>
          </p:nvSpPr>
          <p:spPr>
            <a:xfrm>
              <a:off x="885960" y="2577960"/>
              <a:ext cx="1404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3840" y="2309760"/>
              <a:ext cx="119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reate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885960" y="1925640"/>
            <a:ext cx="1404720" cy="276480"/>
            <a:chOff x="885960" y="1925640"/>
            <a:chExt cx="1404720" cy="276480"/>
          </a:xfrm>
        </p:grpSpPr>
        <p:sp>
          <p:nvSpPr>
            <p:cNvPr id="410" name=""/>
            <p:cNvSpPr/>
            <p:nvPr/>
          </p:nvSpPr>
          <p:spPr>
            <a:xfrm>
              <a:off x="885960" y="2193840"/>
              <a:ext cx="1404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23840" y="1925640"/>
              <a:ext cx="119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it IP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eporting (dbior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614600" y="1163520"/>
            <a:ext cx="5895720" cy="4533840"/>
          </a:xfrm>
          <a:prstGeom prst="rect">
            <a:avLst/>
          </a:prstGeom>
          <a:ln w="0">
            <a:noFill/>
          </a:ln>
        </p:spPr>
      </p:pic>
      <p:grpSp>
        <p:nvGrpSpPr>
          <p:cNvPr id="414" name=""/>
          <p:cNvGrpSpPr/>
          <p:nvPr/>
        </p:nvGrpSpPr>
        <p:grpSpPr>
          <a:xfrm>
            <a:off x="2075040" y="1201680"/>
            <a:ext cx="4570200" cy="1575000"/>
            <a:chOff x="2075040" y="1201680"/>
            <a:chExt cx="4570200" cy="1575000"/>
          </a:xfrm>
        </p:grpSpPr>
        <p:sp>
          <p:nvSpPr>
            <p:cNvPr id="415" name=""/>
            <p:cNvSpPr/>
            <p:nvPr/>
          </p:nvSpPr>
          <p:spPr>
            <a:xfrm>
              <a:off x="2075040" y="2046240"/>
              <a:ext cx="4570200" cy="73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57480" y="1201680"/>
              <a:ext cx="768600" cy="652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ene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768320" y="1932120"/>
            <a:ext cx="768600" cy="3340080"/>
            <a:chOff x="1768320" y="1932120"/>
            <a:chExt cx="768600" cy="3340080"/>
          </a:xfrm>
        </p:grpSpPr>
        <p:sp>
          <p:nvSpPr>
            <p:cNvPr id="418" name=""/>
            <p:cNvSpPr/>
            <p:nvPr/>
          </p:nvSpPr>
          <p:spPr>
            <a:xfrm>
              <a:off x="2075040" y="2776680"/>
              <a:ext cx="19188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68320" y="1932120"/>
              <a:ext cx="768600" cy="65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998720" y="1932120"/>
            <a:ext cx="730080" cy="3340080"/>
            <a:chOff x="1998720" y="1932120"/>
            <a:chExt cx="730080" cy="3340080"/>
          </a:xfrm>
        </p:grpSpPr>
        <p:sp>
          <p:nvSpPr>
            <p:cNvPr id="421" name=""/>
            <p:cNvSpPr/>
            <p:nvPr/>
          </p:nvSpPr>
          <p:spPr>
            <a:xfrm>
              <a:off x="2253600" y="2776680"/>
              <a:ext cx="29268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98720" y="1932120"/>
              <a:ext cx="730080" cy="65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344680" y="1930320"/>
            <a:ext cx="728640" cy="3341880"/>
            <a:chOff x="2344680" y="1930320"/>
            <a:chExt cx="728640" cy="3341880"/>
          </a:xfrm>
        </p:grpSpPr>
        <p:sp>
          <p:nvSpPr>
            <p:cNvPr id="424" name=""/>
            <p:cNvSpPr/>
            <p:nvPr/>
          </p:nvSpPr>
          <p:spPr>
            <a:xfrm>
              <a:off x="2563200" y="2776680"/>
              <a:ext cx="25416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44680" y="1930320"/>
              <a:ext cx="728640" cy="652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843280" y="1932120"/>
            <a:ext cx="768240" cy="3340080"/>
            <a:chOff x="2843280" y="1932120"/>
            <a:chExt cx="768240" cy="3340080"/>
          </a:xfrm>
        </p:grpSpPr>
        <p:sp>
          <p:nvSpPr>
            <p:cNvPr id="427" name=""/>
            <p:cNvSpPr/>
            <p:nvPr/>
          </p:nvSpPr>
          <p:spPr>
            <a:xfrm>
              <a:off x="2843280" y="2776680"/>
              <a:ext cx="76824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43280" y="1932120"/>
              <a:ext cx="768240" cy="65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omm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381480" y="1930320"/>
            <a:ext cx="768240" cy="3341880"/>
            <a:chOff x="3381480" y="1930320"/>
            <a:chExt cx="768240" cy="3341880"/>
          </a:xfrm>
        </p:grpSpPr>
        <p:sp>
          <p:nvSpPr>
            <p:cNvPr id="430" name=""/>
            <p:cNvSpPr/>
            <p:nvPr/>
          </p:nvSpPr>
          <p:spPr>
            <a:xfrm>
              <a:off x="3611520" y="2776680"/>
              <a:ext cx="30816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81480" y="1930320"/>
              <a:ext cx="768240" cy="652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c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956120" y="1932120"/>
            <a:ext cx="1689120" cy="3340080"/>
            <a:chOff x="4956120" y="1932120"/>
            <a:chExt cx="1689120" cy="3340080"/>
          </a:xfrm>
        </p:grpSpPr>
        <p:sp>
          <p:nvSpPr>
            <p:cNvPr id="433" name=""/>
            <p:cNvSpPr/>
            <p:nvPr/>
          </p:nvSpPr>
          <p:spPr>
            <a:xfrm>
              <a:off x="4956120" y="2776680"/>
              <a:ext cx="168912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40240" y="1932120"/>
              <a:ext cx="768600" cy="65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611520" y="1932120"/>
            <a:ext cx="768240" cy="3340080"/>
            <a:chOff x="3611520" y="1932120"/>
            <a:chExt cx="768240" cy="3340080"/>
          </a:xfrm>
        </p:grpSpPr>
        <p:sp>
          <p:nvSpPr>
            <p:cNvPr id="436" name=""/>
            <p:cNvSpPr/>
            <p:nvPr/>
          </p:nvSpPr>
          <p:spPr>
            <a:xfrm>
              <a:off x="3919680" y="2776680"/>
              <a:ext cx="19188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1932120"/>
              <a:ext cx="768240" cy="65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071960" y="1932120"/>
            <a:ext cx="768240" cy="3340080"/>
            <a:chOff x="4071960" y="1932120"/>
            <a:chExt cx="768240" cy="3340080"/>
          </a:xfrm>
        </p:grpSpPr>
        <p:sp>
          <p:nvSpPr>
            <p:cNvPr id="439" name=""/>
            <p:cNvSpPr/>
            <p:nvPr/>
          </p:nvSpPr>
          <p:spPr>
            <a:xfrm>
              <a:off x="4264200" y="2776680"/>
              <a:ext cx="38412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71960" y="1932120"/>
              <a:ext cx="768240" cy="65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ou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417920" y="1932120"/>
            <a:ext cx="768600" cy="3340080"/>
            <a:chOff x="4417920" y="1932120"/>
            <a:chExt cx="768600" cy="3340080"/>
          </a:xfrm>
        </p:grpSpPr>
        <p:sp>
          <p:nvSpPr>
            <p:cNvPr id="442" name=""/>
            <p:cNvSpPr/>
            <p:nvPr/>
          </p:nvSpPr>
          <p:spPr>
            <a:xfrm>
              <a:off x="4687920" y="2776680"/>
              <a:ext cx="26820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17920" y="1932120"/>
              <a:ext cx="768600" cy="65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rt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803760" y="1930320"/>
            <a:ext cx="730080" cy="3341880"/>
            <a:chOff x="3803760" y="1930320"/>
            <a:chExt cx="730080" cy="3341880"/>
          </a:xfrm>
        </p:grpSpPr>
        <p:sp>
          <p:nvSpPr>
            <p:cNvPr id="445" name=""/>
            <p:cNvSpPr/>
            <p:nvPr/>
          </p:nvSpPr>
          <p:spPr>
            <a:xfrm>
              <a:off x="4096080" y="2776680"/>
              <a:ext cx="18252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3760" y="1930320"/>
              <a:ext cx="730080" cy="652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EDM scree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01480" y="3121200"/>
            <a:ext cx="2629080" cy="14000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07800" y="3121200"/>
            <a:ext cx="1230480" cy="231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22320" y="3621240"/>
            <a:ext cx="730440" cy="193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43200" y="3583080"/>
            <a:ext cx="1230120" cy="268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4120" y="3583080"/>
            <a:ext cx="269640" cy="26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112920" y="1085760"/>
            <a:ext cx="3246480" cy="3417840"/>
            <a:chOff x="3112920" y="1085760"/>
            <a:chExt cx="3246480" cy="34178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4187880" y="1085760"/>
              <a:ext cx="21715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 flipV="1">
              <a:off x="3151080" y="1085760"/>
              <a:ext cx="1036800" cy="203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112920" y="2968560"/>
              <a:ext cx="1074960" cy="15350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264200" y="1085760"/>
            <a:ext cx="1037880" cy="230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71960" y="1239840"/>
            <a:ext cx="884160" cy="270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86520" y="1508040"/>
            <a:ext cx="1152360" cy="461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49720" y="1930320"/>
            <a:ext cx="1114560" cy="1228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03800" y="1432080"/>
            <a:ext cx="998280" cy="345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2480" y="1892160"/>
            <a:ext cx="1114560" cy="1229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112920" y="2622240"/>
            <a:ext cx="5491440" cy="3353040"/>
            <a:chOff x="3112920" y="2622240"/>
            <a:chExt cx="5491440" cy="3353040"/>
          </a:xfrm>
        </p:grpSpPr>
        <p:pic>
          <p:nvPicPr>
            <p:cNvPr id="464" name="" descr=""/>
            <p:cNvPicPr/>
            <p:nvPr/>
          </p:nvPicPr>
          <p:blipFill>
            <a:blip r:embed="rId3"/>
            <a:stretch/>
          </p:blipFill>
          <p:spPr>
            <a:xfrm>
              <a:off x="6537240" y="2622600"/>
              <a:ext cx="20671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 flipV="1">
              <a:off x="3112920" y="2622240"/>
              <a:ext cx="3418200" cy="4986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12920" y="4503600"/>
              <a:ext cx="3418200" cy="14605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607080" y="5118120"/>
            <a:ext cx="884160" cy="345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566120" y="4772160"/>
            <a:ext cx="884160" cy="345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566120" y="3313080"/>
            <a:ext cx="884160" cy="345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607080" y="5464080"/>
            <a:ext cx="884160" cy="346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566120" y="4389480"/>
            <a:ext cx="884160" cy="345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67560" y="4043520"/>
            <a:ext cx="884160" cy="345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67560" y="3697200"/>
            <a:ext cx="884160" cy="346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8160" y="382680"/>
            <a:ext cx="8761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ndard directorie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gu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286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quires Asyn 4-2 and Ipac 2-8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cument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286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del 1600 and 16A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286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485LDRC RS232/RS485 converter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286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lease notes, known issues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286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iring diagram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base, record instance fi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ocBoot for Linux and vxWorks (startup script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M display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ins the source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AsynLove.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poseLovelink.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Love.c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veServer.c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8160" y="382680"/>
            <a:ext cx="8761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98400" y="1417320"/>
            <a:ext cx="819144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acement and usage of Asyn trace facility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age of other Asyn interface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rror reaction to communication timeout failure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rther abstraction of record initialization method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ty Kraimer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n Sluiter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de Insp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amline Controls and Data Acqui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PS Operations Div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160" y="382680"/>
            <a:ext cx="8761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49480" indent="-24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view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rdware Configuration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ftware Architecture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062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on record initialization scenari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062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 AI record scenari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veApp standalone application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062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itialization scenari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orting (dbior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DM screen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tribution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rovement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knowledgement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8160" y="382680"/>
            <a:ext cx="8761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98400" y="1195560"/>
            <a:ext cx="8191440" cy="47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ve Controller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rument to measure voltage, current, thermocoup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models 1600 and 16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 is through 2-wire RS48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ice support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ld support based on MP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support based on Asy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choServer and devMPC were departure poi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es an interpose interfa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ndalone application is availa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P-Octal RS232 and RS485 modules can be us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rpose of the new device support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as a learning tool for Asyn-based device suppo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rate from the unsupported MPF to Asy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oint one as the owner of the modu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OS independ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23720" y="1085760"/>
            <a:ext cx="768600" cy="2687760"/>
            <a:chOff x="423720" y="1085760"/>
            <a:chExt cx="768600" cy="2687760"/>
          </a:xfrm>
        </p:grpSpPr>
        <p:sp>
          <p:nvSpPr>
            <p:cNvPr id="141" name=""/>
            <p:cNvSpPr/>
            <p:nvPr/>
          </p:nvSpPr>
          <p:spPr>
            <a:xfrm>
              <a:off x="461880" y="1085760"/>
              <a:ext cx="730440" cy="2687760"/>
            </a:xfrm>
            <a:prstGeom prst="cube">
              <a:avLst>
                <a:gd name="adj" fmla="val 82814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200000">
              <a:off x="109080" y="266868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VME5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Hardware Configuration – RS232 &lt;-&gt; RS485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5960" y="4979880"/>
            <a:ext cx="1366560" cy="12146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l 1600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2774880"/>
            <a:ext cx="2611440" cy="461880"/>
          </a:xfrm>
          <a:prstGeom prst="cube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BS XM-Octal-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28800" y="4979880"/>
            <a:ext cx="1366920" cy="12146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l 16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979880"/>
            <a:ext cx="1366920" cy="12146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l 1600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31040" y="4979880"/>
            <a:ext cx="1366920" cy="12146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l 1600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15200" y="3429000"/>
            <a:ext cx="1252440" cy="9064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&amp;B Electronic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85LD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39640" y="5425920"/>
            <a:ext cx="346320" cy="614520"/>
            <a:chOff x="539640" y="5425920"/>
            <a:chExt cx="346320" cy="614520"/>
          </a:xfrm>
        </p:grpSpPr>
        <p:sp>
          <p:nvSpPr>
            <p:cNvPr id="151" name=""/>
            <p:cNvSpPr/>
            <p:nvPr/>
          </p:nvSpPr>
          <p:spPr>
            <a:xfrm>
              <a:off x="577800" y="542592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39640" y="5425920"/>
              <a:ext cx="346320" cy="614520"/>
              <a:chOff x="539640" y="5425920"/>
              <a:chExt cx="346320" cy="61452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577800" y="5425920"/>
                <a:ext cx="3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577800" y="6040440"/>
                <a:ext cx="3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9640" y="5541840"/>
                <a:ext cx="76320" cy="384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1998720" y="604044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41920" y="604044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86560" y="604044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86560" y="542592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41920" y="542592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98720" y="542592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567560" y="3884760"/>
            <a:ext cx="574560" cy="1541160"/>
            <a:chOff x="7567560" y="3884760"/>
            <a:chExt cx="574560" cy="1541160"/>
          </a:xfrm>
        </p:grpSpPr>
        <p:sp>
          <p:nvSpPr>
            <p:cNvPr id="163" name=""/>
            <p:cNvSpPr/>
            <p:nvPr/>
          </p:nvSpPr>
          <p:spPr>
            <a:xfrm>
              <a:off x="7567560" y="542592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028000" y="4119120"/>
              <a:ext cx="0" cy="13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67560" y="411948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43880" y="3884760"/>
              <a:ext cx="49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(+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567560" y="3429000"/>
            <a:ext cx="692280" cy="2611440"/>
            <a:chOff x="7567560" y="3429000"/>
            <a:chExt cx="692280" cy="2611440"/>
          </a:xfrm>
        </p:grpSpPr>
        <p:sp>
          <p:nvSpPr>
            <p:cNvPr id="168" name=""/>
            <p:cNvSpPr/>
            <p:nvPr/>
          </p:nvSpPr>
          <p:spPr>
            <a:xfrm>
              <a:off x="7567560" y="6040440"/>
              <a:ext cx="69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67560" y="3697200"/>
              <a:ext cx="6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258040" y="3696840"/>
              <a:ext cx="0" cy="234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3880" y="3429000"/>
              <a:ext cx="49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(-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569360" y="2968560"/>
            <a:ext cx="76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4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2968560"/>
            <a:ext cx="7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417920" y="3236400"/>
            <a:ext cx="2035440" cy="578520"/>
            <a:chOff x="4417920" y="3236400"/>
            <a:chExt cx="2035440" cy="578520"/>
          </a:xfrm>
        </p:grpSpPr>
        <p:sp>
          <p:nvSpPr>
            <p:cNvPr id="175" name=""/>
            <p:cNvSpPr/>
            <p:nvPr/>
          </p:nvSpPr>
          <p:spPr>
            <a:xfrm>
              <a:off x="4417920" y="3774960"/>
              <a:ext cx="199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417920" y="323640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4760" y="3538440"/>
              <a:ext cx="49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033800" y="3236760"/>
            <a:ext cx="2419560" cy="962280"/>
            <a:chOff x="4033800" y="3236760"/>
            <a:chExt cx="2419560" cy="962280"/>
          </a:xfrm>
        </p:grpSpPr>
        <p:sp>
          <p:nvSpPr>
            <p:cNvPr id="179" name=""/>
            <p:cNvSpPr/>
            <p:nvPr/>
          </p:nvSpPr>
          <p:spPr>
            <a:xfrm>
              <a:off x="4033800" y="4159080"/>
              <a:ext cx="238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033800" y="3236760"/>
              <a:ext cx="0" cy="9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54760" y="3922560"/>
              <a:ext cx="49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93720" y="1087560"/>
            <a:ext cx="895680" cy="2687400"/>
            <a:chOff x="693720" y="1087560"/>
            <a:chExt cx="895680" cy="2687400"/>
          </a:xfrm>
        </p:grpSpPr>
        <p:grpSp>
          <p:nvGrpSpPr>
            <p:cNvPr id="183" name=""/>
            <p:cNvGrpSpPr/>
            <p:nvPr/>
          </p:nvGrpSpPr>
          <p:grpSpPr>
            <a:xfrm>
              <a:off x="731880" y="1087560"/>
              <a:ext cx="730080" cy="2687400"/>
              <a:chOff x="731880" y="1087560"/>
              <a:chExt cx="730080" cy="2687400"/>
            </a:xfrm>
          </p:grpSpPr>
          <p:sp>
            <p:nvSpPr>
              <p:cNvPr id="184" name=""/>
              <p:cNvSpPr/>
              <p:nvPr/>
            </p:nvSpPr>
            <p:spPr>
              <a:xfrm>
                <a:off x="731880" y="1087560"/>
                <a:ext cx="730080" cy="2687400"/>
              </a:xfrm>
              <a:prstGeom prst="cube">
                <a:avLst>
                  <a:gd name="adj" fmla="val 82814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23760" y="1395360"/>
                <a:ext cx="500040" cy="1266840"/>
              </a:xfrm>
              <a:prstGeom prst="cube">
                <a:avLst>
                  <a:gd name="adj" fmla="val 9518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23760" y="2316240"/>
                <a:ext cx="500040" cy="1266840"/>
              </a:xfrm>
              <a:prstGeom prst="cube">
                <a:avLst>
                  <a:gd name="adj" fmla="val 9518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rot="16200000">
              <a:off x="379080" y="266868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VME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9270800">
              <a:off x="770400" y="179352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IP-OCT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808200" y="2238480"/>
            <a:ext cx="3417840" cy="614160"/>
            <a:chOff x="808200" y="2238480"/>
            <a:chExt cx="3417840" cy="614160"/>
          </a:xfrm>
        </p:grpSpPr>
        <p:sp>
          <p:nvSpPr>
            <p:cNvPr id="190" name=""/>
            <p:cNvSpPr/>
            <p:nvPr/>
          </p:nvSpPr>
          <p:spPr>
            <a:xfrm flipV="1">
              <a:off x="4226040" y="2238480"/>
              <a:ext cx="0" cy="614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8200" y="2276640"/>
              <a:ext cx="3379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423720" y="1085760"/>
            <a:ext cx="768600" cy="2687760"/>
            <a:chOff x="423720" y="1085760"/>
            <a:chExt cx="768600" cy="2687760"/>
          </a:xfrm>
        </p:grpSpPr>
        <p:sp>
          <p:nvSpPr>
            <p:cNvPr id="193" name=""/>
            <p:cNvSpPr/>
            <p:nvPr/>
          </p:nvSpPr>
          <p:spPr>
            <a:xfrm>
              <a:off x="461880" y="1085760"/>
              <a:ext cx="730440" cy="2687760"/>
            </a:xfrm>
            <a:prstGeom prst="cube">
              <a:avLst>
                <a:gd name="adj" fmla="val 82814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109080" y="266868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VME5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Hardware Configuration – RS485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85960" y="4979880"/>
            <a:ext cx="1366560" cy="12146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l 1600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43280" y="2774880"/>
            <a:ext cx="2611440" cy="461880"/>
          </a:xfrm>
          <a:prstGeom prst="cube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BS XM-Octal-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28800" y="4979880"/>
            <a:ext cx="1366920" cy="12146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l 16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4979880"/>
            <a:ext cx="1366920" cy="12146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l 1600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31040" y="4979880"/>
            <a:ext cx="1366920" cy="12146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l 1600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39640" y="5425920"/>
            <a:ext cx="346320" cy="614520"/>
            <a:chOff x="539640" y="5425920"/>
            <a:chExt cx="346320" cy="614520"/>
          </a:xfrm>
        </p:grpSpPr>
        <p:sp>
          <p:nvSpPr>
            <p:cNvPr id="202" name=""/>
            <p:cNvSpPr/>
            <p:nvPr/>
          </p:nvSpPr>
          <p:spPr>
            <a:xfrm>
              <a:off x="577800" y="542592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539640" y="5425920"/>
              <a:ext cx="346320" cy="614520"/>
              <a:chOff x="539640" y="5425920"/>
              <a:chExt cx="346320" cy="61452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577800" y="5425920"/>
                <a:ext cx="3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577800" y="6040440"/>
                <a:ext cx="3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9640" y="5541840"/>
                <a:ext cx="76320" cy="384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" name=""/>
          <p:cNvSpPr/>
          <p:nvPr/>
        </p:nvSpPr>
        <p:spPr>
          <a:xfrm>
            <a:off x="1998720" y="604044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1920" y="604044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86560" y="604044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86560" y="542592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1920" y="542592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98720" y="542592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67560" y="5425920"/>
            <a:ext cx="46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8028000" y="4119120"/>
            <a:ext cx="0" cy="13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33800" y="4119480"/>
            <a:ext cx="399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56080" y="3884760"/>
            <a:ext cx="49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(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67560" y="604044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7920" y="3659040"/>
            <a:ext cx="384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8258040" y="3658680"/>
            <a:ext cx="0" cy="238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57880" y="3429000"/>
            <a:ext cx="4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17920" y="3236400"/>
            <a:ext cx="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033800" y="323676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93720" y="1087560"/>
            <a:ext cx="895680" cy="2687400"/>
            <a:chOff x="693720" y="1087560"/>
            <a:chExt cx="895680" cy="2687400"/>
          </a:xfrm>
        </p:grpSpPr>
        <p:grpSp>
          <p:nvGrpSpPr>
            <p:cNvPr id="224" name=""/>
            <p:cNvGrpSpPr/>
            <p:nvPr/>
          </p:nvGrpSpPr>
          <p:grpSpPr>
            <a:xfrm>
              <a:off x="731880" y="1087560"/>
              <a:ext cx="730080" cy="2687400"/>
              <a:chOff x="731880" y="1087560"/>
              <a:chExt cx="730080" cy="26874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880" y="1087560"/>
                <a:ext cx="730080" cy="2687400"/>
              </a:xfrm>
              <a:prstGeom prst="cube">
                <a:avLst>
                  <a:gd name="adj" fmla="val 82814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23760" y="1395360"/>
                <a:ext cx="500040" cy="1266840"/>
              </a:xfrm>
              <a:prstGeom prst="cube">
                <a:avLst>
                  <a:gd name="adj" fmla="val 9518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23760" y="2316240"/>
                <a:ext cx="500040" cy="1266840"/>
              </a:xfrm>
              <a:prstGeom prst="cube">
                <a:avLst>
                  <a:gd name="adj" fmla="val 9518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rot="16200000">
              <a:off x="379080" y="266868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VME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9270800">
              <a:off x="770400" y="179352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IP-OCT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08200" y="2238480"/>
            <a:ext cx="3417840" cy="614160"/>
            <a:chOff x="808200" y="2238480"/>
            <a:chExt cx="3417840" cy="614160"/>
          </a:xfrm>
        </p:grpSpPr>
        <p:sp>
          <p:nvSpPr>
            <p:cNvPr id="231" name=""/>
            <p:cNvSpPr/>
            <p:nvPr/>
          </p:nvSpPr>
          <p:spPr>
            <a:xfrm flipV="1">
              <a:off x="4226040" y="2238480"/>
              <a:ext cx="0" cy="614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8200" y="2276640"/>
              <a:ext cx="3379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1840" y="5388120"/>
            <a:ext cx="8642160" cy="614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ardwar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31840" y="2314440"/>
            <a:ext cx="8026200" cy="1382760"/>
            <a:chOff x="231840" y="2314440"/>
            <a:chExt cx="8026200" cy="1382760"/>
          </a:xfrm>
        </p:grpSpPr>
        <p:sp>
          <p:nvSpPr>
            <p:cNvPr id="236" name=""/>
            <p:cNvSpPr/>
            <p:nvPr/>
          </p:nvSpPr>
          <p:spPr>
            <a:xfrm>
              <a:off x="1076400" y="3083040"/>
              <a:ext cx="7181640" cy="614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elink Interpose Interface Layer (interposeLovelin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1840" y="2314440"/>
              <a:ext cx="7219800" cy="614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e Device Support (devAsynLov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529400" y="1547640"/>
            <a:ext cx="1382760" cy="614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yn Record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asynReco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31840" y="1547640"/>
            <a:ext cx="7219800" cy="614520"/>
            <a:chOff x="231840" y="1547640"/>
            <a:chExt cx="7219800" cy="614520"/>
          </a:xfrm>
        </p:grpSpPr>
        <p:sp>
          <p:nvSpPr>
            <p:cNvPr id="240" name=""/>
            <p:cNvSpPr/>
            <p:nvPr/>
          </p:nvSpPr>
          <p:spPr>
            <a:xfrm>
              <a:off x="231840" y="1547640"/>
              <a:ext cx="1382400" cy="6145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I  Record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90560" y="1547640"/>
              <a:ext cx="1382760" cy="6145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O  Record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49640" y="1547640"/>
              <a:ext cx="1382760" cy="6145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I  Record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08360" y="1547640"/>
              <a:ext cx="1382760" cy="6145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O  Record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68880" y="1547640"/>
              <a:ext cx="1382760" cy="6145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BBI  Record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31840" y="4619520"/>
            <a:ext cx="8642160" cy="614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ctal IP-Module (tyGSOc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31840" y="3851280"/>
            <a:ext cx="8680320" cy="614520"/>
            <a:chOff x="231840" y="3851280"/>
            <a:chExt cx="8680320" cy="614520"/>
          </a:xfrm>
        </p:grpSpPr>
        <p:sp>
          <p:nvSpPr>
            <p:cNvPr id="247" name=""/>
            <p:cNvSpPr/>
            <p:nvPr/>
          </p:nvSpPr>
          <p:spPr>
            <a:xfrm>
              <a:off x="231840" y="3851280"/>
              <a:ext cx="8680320" cy="614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3760" y="4119480"/>
              <a:ext cx="149832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30680" y="4119480"/>
              <a:ext cx="149868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rt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6880" y="4119480"/>
              <a:ext cx="149832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Oct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ommon record initialization scenario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5920" y="1163520"/>
            <a:ext cx="997920" cy="5069160"/>
            <a:chOff x="385920" y="1163520"/>
            <a:chExt cx="997920" cy="5069160"/>
          </a:xfrm>
        </p:grpSpPr>
        <p:sp>
          <p:nvSpPr>
            <p:cNvPr id="253" name=""/>
            <p:cNvSpPr/>
            <p:nvPr/>
          </p:nvSpPr>
          <p:spPr>
            <a:xfrm>
              <a:off x="385920" y="1163520"/>
              <a:ext cx="99792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cord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8488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768320" y="1163520"/>
            <a:ext cx="998280" cy="5069160"/>
            <a:chOff x="1768320" y="1163520"/>
            <a:chExt cx="998280" cy="5069160"/>
          </a:xfrm>
        </p:grpSpPr>
        <p:sp>
          <p:nvSpPr>
            <p:cNvPr id="256" name=""/>
            <p:cNvSpPr/>
            <p:nvPr/>
          </p:nvSpPr>
          <p:spPr>
            <a:xfrm>
              <a:off x="1768320" y="1163520"/>
              <a:ext cx="99828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vice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6728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071960" y="1163520"/>
            <a:ext cx="998280" cy="5069160"/>
            <a:chOff x="4071960" y="1163520"/>
            <a:chExt cx="998280" cy="5069160"/>
          </a:xfrm>
        </p:grpSpPr>
        <p:sp>
          <p:nvSpPr>
            <p:cNvPr id="259" name=""/>
            <p:cNvSpPr/>
            <p:nvPr/>
          </p:nvSpPr>
          <p:spPr>
            <a:xfrm>
              <a:off x="4071960" y="1163520"/>
              <a:ext cx="99828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092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378400" y="1163520"/>
            <a:ext cx="1152360" cy="5069160"/>
            <a:chOff x="5378400" y="1163520"/>
            <a:chExt cx="1152360" cy="5069160"/>
          </a:xfrm>
        </p:grpSpPr>
        <p:sp>
          <p:nvSpPr>
            <p:cNvPr id="262" name=""/>
            <p:cNvSpPr/>
            <p:nvPr/>
          </p:nvSpPr>
          <p:spPr>
            <a:xfrm>
              <a:off x="5378400" y="1163520"/>
              <a:ext cx="115236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5440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885960" y="1733400"/>
            <a:ext cx="1380960" cy="276480"/>
            <a:chOff x="885960" y="1733400"/>
            <a:chExt cx="1380960" cy="276480"/>
          </a:xfrm>
        </p:grpSpPr>
        <p:sp>
          <p:nvSpPr>
            <p:cNvPr id="265" name=""/>
            <p:cNvSpPr/>
            <p:nvPr/>
          </p:nvSpPr>
          <p:spPr>
            <a:xfrm>
              <a:off x="885960" y="1969920"/>
              <a:ext cx="13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5960" y="1733400"/>
              <a:ext cx="132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XX__init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728800" y="1969920"/>
            <a:ext cx="1842840" cy="276480"/>
            <a:chOff x="2728800" y="1969920"/>
            <a:chExt cx="1842840" cy="276480"/>
          </a:xfrm>
        </p:grpSpPr>
        <p:sp>
          <p:nvSpPr>
            <p:cNvPr id="268" name=""/>
            <p:cNvSpPr/>
            <p:nvPr/>
          </p:nvSpPr>
          <p:spPr>
            <a:xfrm>
              <a:off x="2728800" y="2238120"/>
              <a:ext cx="184284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12760" y="1969920"/>
              <a:ext cx="15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reateAsynUser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727360" y="2309760"/>
            <a:ext cx="3226680" cy="276480"/>
            <a:chOff x="2727360" y="2309760"/>
            <a:chExt cx="3226680" cy="276480"/>
          </a:xfrm>
        </p:grpSpPr>
        <p:sp>
          <p:nvSpPr>
            <p:cNvPr id="271" name=""/>
            <p:cNvSpPr/>
            <p:nvPr/>
          </p:nvSpPr>
          <p:spPr>
            <a:xfrm>
              <a:off x="2727360" y="2577960"/>
              <a:ext cx="322668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49200" y="2309760"/>
              <a:ext cx="27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arseLink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27360" y="3467160"/>
            <a:ext cx="1344600" cy="460440"/>
            <a:chOff x="2727360" y="3467160"/>
            <a:chExt cx="1344600" cy="460440"/>
          </a:xfrm>
        </p:grpSpPr>
        <p:grpSp>
          <p:nvGrpSpPr>
            <p:cNvPr id="274" name=""/>
            <p:cNvGrpSpPr/>
            <p:nvPr/>
          </p:nvGrpSpPr>
          <p:grpSpPr>
            <a:xfrm>
              <a:off x="2727360" y="3735720"/>
              <a:ext cx="461880" cy="191880"/>
              <a:chOff x="2727360" y="3735720"/>
              <a:chExt cx="461880" cy="1918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3735720"/>
                <a:ext cx="46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27360" y="3927600"/>
                <a:ext cx="46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89240" y="3735720"/>
                <a:ext cx="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2766960" y="3467160"/>
              <a:ext cx="130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alidateParams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728800" y="2693880"/>
            <a:ext cx="1842840" cy="276480"/>
            <a:chOff x="2728800" y="2693880"/>
            <a:chExt cx="1842840" cy="276480"/>
          </a:xfrm>
        </p:grpSpPr>
        <p:sp>
          <p:nvSpPr>
            <p:cNvPr id="280" name=""/>
            <p:cNvSpPr/>
            <p:nvPr/>
          </p:nvSpPr>
          <p:spPr>
            <a:xfrm>
              <a:off x="2728800" y="2962080"/>
              <a:ext cx="184284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12760" y="2693880"/>
              <a:ext cx="15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onnectDevice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728800" y="3078000"/>
            <a:ext cx="1842840" cy="276480"/>
            <a:chOff x="2728800" y="3078000"/>
            <a:chExt cx="1842840" cy="276480"/>
          </a:xfrm>
        </p:grpSpPr>
        <p:sp>
          <p:nvSpPr>
            <p:cNvPr id="283" name=""/>
            <p:cNvSpPr/>
            <p:nvPr/>
          </p:nvSpPr>
          <p:spPr>
            <a:xfrm>
              <a:off x="2728800" y="3346200"/>
              <a:ext cx="184284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12760" y="3078000"/>
              <a:ext cx="15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indInterface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266920" y="1816200"/>
            <a:ext cx="1344600" cy="2261520"/>
            <a:chOff x="2266920" y="1816200"/>
            <a:chExt cx="1344600" cy="2261520"/>
          </a:xfrm>
        </p:grpSpPr>
        <p:grpSp>
          <p:nvGrpSpPr>
            <p:cNvPr id="286" name=""/>
            <p:cNvGrpSpPr/>
            <p:nvPr/>
          </p:nvGrpSpPr>
          <p:grpSpPr>
            <a:xfrm>
              <a:off x="2266920" y="2084400"/>
              <a:ext cx="461880" cy="1993320"/>
              <a:chOff x="2266920" y="2084400"/>
              <a:chExt cx="461880" cy="1993320"/>
            </a:xfrm>
          </p:grpSpPr>
          <p:sp>
            <p:nvSpPr>
              <p:cNvPr id="287" name=""/>
              <p:cNvSpPr/>
              <p:nvPr/>
            </p:nvSpPr>
            <p:spPr>
              <a:xfrm>
                <a:off x="2266920" y="2084400"/>
                <a:ext cx="46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66920" y="4077720"/>
                <a:ext cx="46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28800" y="2084400"/>
                <a:ext cx="0" cy="199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306520" y="1816200"/>
              <a:ext cx="130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__recordInit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ead AI record scenario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5920" y="1163520"/>
            <a:ext cx="997920" cy="5069160"/>
            <a:chOff x="385920" y="1163520"/>
            <a:chExt cx="997920" cy="5069160"/>
          </a:xfrm>
        </p:grpSpPr>
        <p:sp>
          <p:nvSpPr>
            <p:cNvPr id="293" name=""/>
            <p:cNvSpPr/>
            <p:nvPr/>
          </p:nvSpPr>
          <p:spPr>
            <a:xfrm>
              <a:off x="385920" y="1163520"/>
              <a:ext cx="99792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cord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8488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768320" y="1163520"/>
            <a:ext cx="998280" cy="5069160"/>
            <a:chOff x="1768320" y="1163520"/>
            <a:chExt cx="998280" cy="5069160"/>
          </a:xfrm>
        </p:grpSpPr>
        <p:sp>
          <p:nvSpPr>
            <p:cNvPr id="296" name=""/>
            <p:cNvSpPr/>
            <p:nvPr/>
          </p:nvSpPr>
          <p:spPr>
            <a:xfrm>
              <a:off x="1768320" y="1163520"/>
              <a:ext cx="99828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vice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6728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611520" y="1163520"/>
            <a:ext cx="998280" cy="5069160"/>
            <a:chOff x="3611520" y="1163520"/>
            <a:chExt cx="998280" cy="5069160"/>
          </a:xfrm>
        </p:grpSpPr>
        <p:sp>
          <p:nvSpPr>
            <p:cNvPr id="299" name=""/>
            <p:cNvSpPr/>
            <p:nvPr/>
          </p:nvSpPr>
          <p:spPr>
            <a:xfrm>
              <a:off x="3611520" y="1163520"/>
              <a:ext cx="99828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y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1048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917960" y="1163520"/>
            <a:ext cx="1152360" cy="5069160"/>
            <a:chOff x="4917960" y="1163520"/>
            <a:chExt cx="1152360" cy="5069160"/>
          </a:xfrm>
        </p:grpSpPr>
        <p:sp>
          <p:nvSpPr>
            <p:cNvPr id="302" name=""/>
            <p:cNvSpPr/>
            <p:nvPr/>
          </p:nvSpPr>
          <p:spPr>
            <a:xfrm>
              <a:off x="4917960" y="1163520"/>
              <a:ext cx="115236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terpose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9396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885960" y="1695600"/>
            <a:ext cx="1380960" cy="276480"/>
            <a:chOff x="885960" y="1695600"/>
            <a:chExt cx="1380960" cy="276480"/>
          </a:xfrm>
        </p:grpSpPr>
        <p:sp>
          <p:nvSpPr>
            <p:cNvPr id="305" name=""/>
            <p:cNvSpPr/>
            <p:nvPr/>
          </p:nvSpPr>
          <p:spPr>
            <a:xfrm>
              <a:off x="885960" y="1963800"/>
              <a:ext cx="138096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23840" y="1695600"/>
              <a:ext cx="119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i_read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268360" y="1847880"/>
            <a:ext cx="1842840" cy="276480"/>
            <a:chOff x="2268360" y="1847880"/>
            <a:chExt cx="1842840" cy="276480"/>
          </a:xfrm>
        </p:grpSpPr>
        <p:sp>
          <p:nvSpPr>
            <p:cNvPr id="308" name=""/>
            <p:cNvSpPr/>
            <p:nvPr/>
          </p:nvSpPr>
          <p:spPr>
            <a:xfrm>
              <a:off x="2268360" y="2116080"/>
              <a:ext cx="184284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52320" y="1847880"/>
              <a:ext cx="15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ueueRequest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266920" y="2232000"/>
            <a:ext cx="1844640" cy="276480"/>
            <a:chOff x="2266920" y="2232000"/>
            <a:chExt cx="1844640" cy="276480"/>
          </a:xfrm>
        </p:grpSpPr>
        <p:sp>
          <p:nvSpPr>
            <p:cNvPr id="311" name=""/>
            <p:cNvSpPr/>
            <p:nvPr/>
          </p:nvSpPr>
          <p:spPr>
            <a:xfrm>
              <a:off x="2266920" y="2500200"/>
              <a:ext cx="184464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50880" y="2232000"/>
              <a:ext cx="159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allback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2266920" y="2622600"/>
            <a:ext cx="1344600" cy="460440"/>
            <a:chOff x="2266920" y="2622600"/>
            <a:chExt cx="1344600" cy="460440"/>
          </a:xfrm>
        </p:grpSpPr>
        <p:grpSp>
          <p:nvGrpSpPr>
            <p:cNvPr id="314" name=""/>
            <p:cNvGrpSpPr/>
            <p:nvPr/>
          </p:nvGrpSpPr>
          <p:grpSpPr>
            <a:xfrm>
              <a:off x="2266920" y="2891160"/>
              <a:ext cx="461880" cy="191880"/>
              <a:chOff x="2266920" y="2891160"/>
              <a:chExt cx="461880" cy="191880"/>
            </a:xfrm>
          </p:grpSpPr>
          <p:sp>
            <p:nvSpPr>
              <p:cNvPr id="315" name=""/>
              <p:cNvSpPr/>
              <p:nvPr/>
            </p:nvSpPr>
            <p:spPr>
              <a:xfrm>
                <a:off x="2266920" y="2891160"/>
                <a:ext cx="46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266920" y="3083040"/>
                <a:ext cx="46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728800" y="2891160"/>
                <a:ext cx="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306520" y="2622600"/>
              <a:ext cx="130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reProcess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254320" y="3198960"/>
            <a:ext cx="1933560" cy="1650960"/>
            <a:chOff x="2254320" y="3198960"/>
            <a:chExt cx="1933560" cy="1650960"/>
          </a:xfrm>
        </p:grpSpPr>
        <p:sp>
          <p:nvSpPr>
            <p:cNvPr id="320" name=""/>
            <p:cNvSpPr/>
            <p:nvPr/>
          </p:nvSpPr>
          <p:spPr>
            <a:xfrm>
              <a:off x="2306520" y="3198960"/>
              <a:ext cx="188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xecuteCommand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254320" y="3467160"/>
              <a:ext cx="666720" cy="1382760"/>
              <a:chOff x="2254320" y="3467160"/>
              <a:chExt cx="666720" cy="1382760"/>
            </a:xfrm>
          </p:grpSpPr>
          <p:sp>
            <p:nvSpPr>
              <p:cNvPr id="322" name=""/>
              <p:cNvSpPr/>
              <p:nvPr/>
            </p:nvSpPr>
            <p:spPr>
              <a:xfrm>
                <a:off x="2254320" y="3467160"/>
                <a:ext cx="66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254320" y="4849920"/>
                <a:ext cx="66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21040" y="346716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922480" y="3308400"/>
            <a:ext cx="2571480" cy="276480"/>
            <a:chOff x="2922480" y="3308400"/>
            <a:chExt cx="2571480" cy="276480"/>
          </a:xfrm>
        </p:grpSpPr>
        <p:sp>
          <p:nvSpPr>
            <p:cNvPr id="326" name=""/>
            <p:cNvSpPr/>
            <p:nvPr/>
          </p:nvSpPr>
          <p:spPr>
            <a:xfrm>
              <a:off x="2922480" y="3576600"/>
              <a:ext cx="257148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79160" y="3308400"/>
              <a:ext cx="221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ite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884160" y="4927680"/>
            <a:ext cx="1382760" cy="276480"/>
            <a:chOff x="884160" y="4927680"/>
            <a:chExt cx="1382760" cy="276480"/>
          </a:xfrm>
        </p:grpSpPr>
        <p:sp>
          <p:nvSpPr>
            <p:cNvPr id="329" name=""/>
            <p:cNvSpPr/>
            <p:nvPr/>
          </p:nvSpPr>
          <p:spPr>
            <a:xfrm>
              <a:off x="884160" y="5195880"/>
              <a:ext cx="13827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22040" y="4927680"/>
              <a:ext cx="119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rocess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377040" y="1163520"/>
            <a:ext cx="998280" cy="5069160"/>
            <a:chOff x="6377040" y="1163520"/>
            <a:chExt cx="998280" cy="5069160"/>
          </a:xfrm>
        </p:grpSpPr>
        <p:sp>
          <p:nvSpPr>
            <p:cNvPr id="332" name=""/>
            <p:cNvSpPr/>
            <p:nvPr/>
          </p:nvSpPr>
          <p:spPr>
            <a:xfrm>
              <a:off x="6377040" y="1163520"/>
              <a:ext cx="998280" cy="42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76000" y="1585800"/>
              <a:ext cx="0" cy="46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111560" y="3768840"/>
            <a:ext cx="2764800" cy="276480"/>
            <a:chOff x="4111560" y="3768840"/>
            <a:chExt cx="2764800" cy="276480"/>
          </a:xfrm>
        </p:grpSpPr>
        <p:sp>
          <p:nvSpPr>
            <p:cNvPr id="335" name=""/>
            <p:cNvSpPr/>
            <p:nvPr/>
          </p:nvSpPr>
          <p:spPr>
            <a:xfrm>
              <a:off x="4111560" y="4037040"/>
              <a:ext cx="276480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87320" y="3768840"/>
              <a:ext cx="238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ite mess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922480" y="3998880"/>
            <a:ext cx="2571480" cy="276480"/>
            <a:chOff x="2922480" y="3998880"/>
            <a:chExt cx="2571480" cy="276480"/>
          </a:xfrm>
        </p:grpSpPr>
        <p:sp>
          <p:nvSpPr>
            <p:cNvPr id="338" name=""/>
            <p:cNvSpPr/>
            <p:nvPr/>
          </p:nvSpPr>
          <p:spPr>
            <a:xfrm>
              <a:off x="2922480" y="4267080"/>
              <a:ext cx="257148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79160" y="3998880"/>
              <a:ext cx="221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ad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111560" y="4460760"/>
            <a:ext cx="2764800" cy="276480"/>
            <a:chOff x="4111560" y="4460760"/>
            <a:chExt cx="2764800" cy="276480"/>
          </a:xfrm>
        </p:grpSpPr>
        <p:sp>
          <p:nvSpPr>
            <p:cNvPr id="341" name=""/>
            <p:cNvSpPr/>
            <p:nvPr/>
          </p:nvSpPr>
          <p:spPr>
            <a:xfrm>
              <a:off x="4111560" y="4728960"/>
              <a:ext cx="276480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87320" y="4460760"/>
              <a:ext cx="238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ad respon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885960" y="5305320"/>
            <a:ext cx="1380960" cy="276480"/>
            <a:chOff x="885960" y="5305320"/>
            <a:chExt cx="1380960" cy="276480"/>
          </a:xfrm>
        </p:grpSpPr>
        <p:sp>
          <p:nvSpPr>
            <p:cNvPr id="344" name=""/>
            <p:cNvSpPr/>
            <p:nvPr/>
          </p:nvSpPr>
          <p:spPr>
            <a:xfrm>
              <a:off x="885960" y="5573520"/>
              <a:ext cx="138096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23840" y="5305320"/>
              <a:ext cx="119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i_read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266920" y="5465880"/>
            <a:ext cx="1344600" cy="459720"/>
            <a:chOff x="2266920" y="5465880"/>
            <a:chExt cx="1344600" cy="459720"/>
          </a:xfrm>
        </p:grpSpPr>
        <p:grpSp>
          <p:nvGrpSpPr>
            <p:cNvPr id="347" name=""/>
            <p:cNvGrpSpPr/>
            <p:nvPr/>
          </p:nvGrpSpPr>
          <p:grpSpPr>
            <a:xfrm>
              <a:off x="2266920" y="5734080"/>
              <a:ext cx="461880" cy="191520"/>
              <a:chOff x="2266920" y="5734080"/>
              <a:chExt cx="461880" cy="191520"/>
            </a:xfrm>
          </p:grpSpPr>
          <p:sp>
            <p:nvSpPr>
              <p:cNvPr id="348" name=""/>
              <p:cNvSpPr/>
              <p:nvPr/>
            </p:nvSpPr>
            <p:spPr>
              <a:xfrm>
                <a:off x="2266920" y="5734080"/>
                <a:ext cx="46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66920" y="5925600"/>
                <a:ext cx="46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28800" y="5734080"/>
                <a:ext cx="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2306520" y="5465880"/>
              <a:ext cx="130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oCompletion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111560" y="3538440"/>
            <a:ext cx="1382760" cy="276480"/>
            <a:chOff x="4111560" y="3538440"/>
            <a:chExt cx="1382760" cy="276480"/>
          </a:xfrm>
        </p:grpSpPr>
        <p:sp>
          <p:nvSpPr>
            <p:cNvPr id="353" name=""/>
            <p:cNvSpPr/>
            <p:nvPr/>
          </p:nvSpPr>
          <p:spPr>
            <a:xfrm>
              <a:off x="4111560" y="3806640"/>
              <a:ext cx="13827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49440" y="3538440"/>
              <a:ext cx="119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111560" y="4229280"/>
            <a:ext cx="1382760" cy="276480"/>
            <a:chOff x="4111560" y="4229280"/>
            <a:chExt cx="1382760" cy="276480"/>
          </a:xfrm>
        </p:grpSpPr>
        <p:sp>
          <p:nvSpPr>
            <p:cNvPr id="356" name=""/>
            <p:cNvSpPr/>
            <p:nvPr/>
          </p:nvSpPr>
          <p:spPr>
            <a:xfrm>
              <a:off x="4111560" y="4497120"/>
              <a:ext cx="138276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49440" y="4229280"/>
              <a:ext cx="119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8520" y="369360"/>
            <a:ext cx="87472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loveApp standalone applic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98040" y="1460520"/>
            <a:ext cx="81774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application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with the release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s vxWorks and Linux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base with PVs for each command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Kline</cp:lastModifiedBy>
  <dcterms:modified xsi:type="dcterms:W3CDTF">2005-03-18T13:32:12Z</dcterms:modified>
  <cp:revision>51</cp:revision>
  <dc:subject/>
  <dc:title>BCDA Code Inspections</dc:title>
</cp:coreProperties>
</file>